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27.jpeg" ContentType="image/jpeg"/>
  <Override PartName="/ppt/media/image6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5.jpeg" ContentType="image/jpeg"/>
  <Override PartName="/ppt/media/image15.gif" ContentType="image/gif"/>
  <Override PartName="/ppt/media/image29.jpeg" ContentType="image/jpeg"/>
  <Override PartName="/ppt/media/image8.jpeg" ContentType="image/jpeg"/>
  <Override PartName="/ppt/media/image30.png" ContentType="image/png"/>
  <Override PartName="/ppt/media/image9.png" ContentType="image/png"/>
  <Override PartName="/ppt/media/image10.gif" ContentType="image/gif"/>
  <Override PartName="/ppt/media/image4.jpeg" ContentType="image/jpeg"/>
  <Override PartName="/ppt/media/image25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jpeg" ContentType="image/jpeg"/>
  <Override PartName="/ppt/media/image14.gif" ContentType="image/gif"/>
  <Override PartName="/ppt/media/image16.gif" ContentType="image/gif"/>
  <Override PartName="/ppt/media/image12.gif" ContentType="image/gif"/>
  <Override PartName="/ppt/media/image17.jpeg" ContentType="image/jpeg"/>
  <Override PartName="/ppt/media/image22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1.gif" ContentType="image/gif"/>
  <Override PartName="/ppt/media/image24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429-4B42-4026-A304-226C7463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4366-10A6-4969-9A94-9F754DEC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58A-DD4B-484C-A9AD-2BF2322D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DE4-A1CE-42AF-BB43-E64714E3B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016A-D640-47EA-915C-9E12F396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4A1-C173-455D-AF5F-E79973DB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F265-9A21-40DB-8281-632E8223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8ED-9082-48B0-8F05-CEBBD15E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85D-D58B-4594-92BB-33B6CAE9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55A-9E4F-41C8-92C2-FB53FE34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1C2-BA9C-424B-A879-716BA1BB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D5C1-F494-4E80-9B06-950A634E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9939-5D74-4CC3-91B2-1037000AE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image" Target="../media/image24.png"/><Relationship Id="rId15" Type="http://schemas.openxmlformats.org/officeDocument/2006/relationships/image" Target="../media/image24.png"/><Relationship Id="rId1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9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Monotype Corsiva"/>
              </a:rPr>
              <a:t>CR</a:t>
            </a:r>
            <a:r>
              <a:rPr b="1" i="1" lang="ro-RO" sz="4000" spc="-1" strike="noStrike">
                <a:solidFill>
                  <a:srgbClr val="ff3300"/>
                </a:solidFill>
                <a:latin typeface="Monotype Corsiva"/>
              </a:rPr>
              <a:t>ĂIASA  ZĂPEZII</a:t>
            </a:r>
            <a:br>
              <a:rPr sz="4000"/>
            </a:br>
            <a:r>
              <a:rPr b="1" i="1" lang="ro-RO" sz="4000" spc="-1" strike="noStrike">
                <a:solidFill>
                  <a:srgbClr val="ff3300"/>
                </a:solidFill>
                <a:latin typeface="Monotype Corsiva"/>
              </a:rPr>
              <a:t>de Hans Christian Anders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101080" y="6477120"/>
            <a:ext cx="1042920" cy="380880"/>
          </a:xfrm>
          <a:custGeom>
            <a:avLst/>
            <a:gdLst>
              <a:gd name="textAreaLeft" fmla="*/ 24480 w 1042920"/>
              <a:gd name="textAreaRight" fmla="*/ 1018440 w 1042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09" h="21600">
                <a:moveTo>
                  <a:pt x="0" y="0"/>
                </a:moveTo>
                <a:lnTo>
                  <a:pt x="59109" y="0"/>
                </a:lnTo>
                <a:lnTo>
                  <a:pt x="59109" y="21600"/>
                </a:lnTo>
                <a:lnTo>
                  <a:pt x="0" y="21600"/>
                </a:lnTo>
                <a:close/>
              </a:path>
              <a:path fill="lightenLess" w="59109" h="21600">
                <a:moveTo>
                  <a:pt x="0" y="0"/>
                </a:moveTo>
                <a:lnTo>
                  <a:pt x="59109" y="0"/>
                </a:lnTo>
                <a:lnTo>
                  <a:pt x="57709" y="1400"/>
                </a:lnTo>
                <a:lnTo>
                  <a:pt x="1400" y="1400"/>
                </a:lnTo>
                <a:close/>
              </a:path>
              <a:path fill="darken" w="59109" h="21600">
                <a:moveTo>
                  <a:pt x="59109" y="0"/>
                </a:moveTo>
                <a:lnTo>
                  <a:pt x="59109" y="21600"/>
                </a:lnTo>
                <a:lnTo>
                  <a:pt x="57709" y="20200"/>
                </a:lnTo>
                <a:lnTo>
                  <a:pt x="57709" y="1400"/>
                </a:lnTo>
                <a:close/>
              </a:path>
              <a:path fill="darkenLess" w="59109" h="21600">
                <a:moveTo>
                  <a:pt x="59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09" y="20200"/>
                </a:lnTo>
                <a:close/>
              </a:path>
              <a:path fill="lighten" w="59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09" h="21600">
                <a:moveTo>
                  <a:pt x="22548" y="3794"/>
                </a:moveTo>
                <a:lnTo>
                  <a:pt x="36561" y="10800"/>
                </a:lnTo>
                <a:lnTo>
                  <a:pt x="2254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snow queen fairy tale pocelain collection ruth treffeisen dolls day gerda"/>
          <p:cNvPicPr/>
          <p:nvPr/>
        </p:nvPicPr>
        <p:blipFill>
          <a:blip r:embed="rId1"/>
          <a:stretch/>
        </p:blipFill>
        <p:spPr>
          <a:xfrm>
            <a:off x="1447920" y="1676520"/>
            <a:ext cx="6319800" cy="464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23920" y="533520"/>
            <a:ext cx="3962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500" spc="-1" strike="noStrike">
                <a:solidFill>
                  <a:srgbClr val="000000"/>
                </a:solidFill>
                <a:latin typeface="Arial"/>
              </a:rPr>
              <a:t>Înainte de culcare, băiatul priveşte afară.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810240" cy="5867280"/>
          </a:xfrm>
          <a:prstGeom prst="rect">
            <a:avLst/>
          </a:prstGeom>
          <a:ln w="0">
            <a:noFill/>
          </a:ln>
        </p:spPr>
      </p:pic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7848720" y="617220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6" h="21600">
                <a:moveTo>
                  <a:pt x="15081" y="3794"/>
                </a:moveTo>
                <a:lnTo>
                  <a:pt x="29094" y="10800"/>
                </a:lnTo>
                <a:lnTo>
                  <a:pt x="150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6400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73280" y="5409360"/>
            <a:ext cx="27486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000" spc="-1" strike="noStrike">
                <a:solidFill>
                  <a:srgbClr val="ffff66"/>
                </a:solidFill>
                <a:latin typeface="Arial"/>
              </a:rPr>
              <a:t>Ninge</a:t>
            </a:r>
            <a:r>
              <a:rPr b="0" lang="en-US" sz="7000" spc="-1" strike="noStrike">
                <a:solidFill>
                  <a:srgbClr val="ffff66"/>
                </a:solidFill>
                <a:latin typeface="Arial"/>
              </a:rPr>
              <a:t>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101080" y="6424560"/>
            <a:ext cx="1042920" cy="433440"/>
          </a:xfrm>
          <a:custGeom>
            <a:avLst/>
            <a:gdLst>
              <a:gd name="textAreaLeft" fmla="*/ 28080 w 1042920"/>
              <a:gd name="textAreaRight" fmla="*/ 1014840 w 10429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1948" h="21600">
                <a:moveTo>
                  <a:pt x="0" y="0"/>
                </a:moveTo>
                <a:lnTo>
                  <a:pt x="51948" y="0"/>
                </a:lnTo>
                <a:lnTo>
                  <a:pt x="51948" y="21600"/>
                </a:lnTo>
                <a:lnTo>
                  <a:pt x="0" y="21600"/>
                </a:lnTo>
                <a:close/>
              </a:path>
              <a:path fill="lightenLess" w="51948" h="21600">
                <a:moveTo>
                  <a:pt x="0" y="0"/>
                </a:moveTo>
                <a:lnTo>
                  <a:pt x="51948" y="0"/>
                </a:lnTo>
                <a:lnTo>
                  <a:pt x="50548" y="1400"/>
                </a:lnTo>
                <a:lnTo>
                  <a:pt x="1400" y="1400"/>
                </a:lnTo>
                <a:close/>
              </a:path>
              <a:path fill="darken" w="51948" h="21600">
                <a:moveTo>
                  <a:pt x="51948" y="0"/>
                </a:moveTo>
                <a:lnTo>
                  <a:pt x="51948" y="21600"/>
                </a:lnTo>
                <a:lnTo>
                  <a:pt x="50548" y="20200"/>
                </a:lnTo>
                <a:lnTo>
                  <a:pt x="50548" y="1400"/>
                </a:lnTo>
                <a:close/>
              </a:path>
              <a:path fill="darkenLess" w="51948" h="21600">
                <a:moveTo>
                  <a:pt x="51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8" y="20200"/>
                </a:lnTo>
                <a:close/>
              </a:path>
              <a:path fill="lighten" w="51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8" h="21600">
                <a:moveTo>
                  <a:pt x="18967" y="3794"/>
                </a:moveTo>
                <a:lnTo>
                  <a:pt x="32980" y="10800"/>
                </a:lnTo>
                <a:lnTo>
                  <a:pt x="189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5880" y="533520"/>
            <a:ext cx="2819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500" spc="-1" strike="noStrike">
                <a:solidFill>
                  <a:srgbClr val="000000"/>
                </a:solidFill>
                <a:latin typeface="Arial"/>
              </a:rPr>
              <a:t>Fulgul cel mai mare se opreşte în faţa </a:t>
            </a:r>
            <a:r>
              <a:rPr b="0" lang="ro-RO" sz="5200" spc="-1" strike="noStrike">
                <a:solidFill>
                  <a:srgbClr val="000000"/>
                </a:solidFill>
                <a:latin typeface="Arial"/>
              </a:rPr>
              <a:t>ferestrei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791320" cy="632448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924680" y="6348240"/>
            <a:ext cx="1043280" cy="509760"/>
          </a:xfrm>
          <a:custGeom>
            <a:avLst/>
            <a:gdLst>
              <a:gd name="textAreaLeft" fmla="*/ 32760 w 1043280"/>
              <a:gd name="textAreaRight" fmla="*/ 1010520 w 104328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91" h="21600">
                <a:moveTo>
                  <a:pt x="0" y="0"/>
                </a:moveTo>
                <a:lnTo>
                  <a:pt x="44191" y="0"/>
                </a:lnTo>
                <a:lnTo>
                  <a:pt x="44191" y="21600"/>
                </a:lnTo>
                <a:lnTo>
                  <a:pt x="0" y="21600"/>
                </a:lnTo>
                <a:close/>
              </a:path>
              <a:path fill="lightenLess" w="44191" h="21600">
                <a:moveTo>
                  <a:pt x="0" y="0"/>
                </a:moveTo>
                <a:lnTo>
                  <a:pt x="44191" y="0"/>
                </a:lnTo>
                <a:lnTo>
                  <a:pt x="42791" y="1400"/>
                </a:lnTo>
                <a:lnTo>
                  <a:pt x="1400" y="1400"/>
                </a:lnTo>
                <a:close/>
              </a:path>
              <a:path fill="darken" w="44191" h="21600">
                <a:moveTo>
                  <a:pt x="44191" y="0"/>
                </a:moveTo>
                <a:lnTo>
                  <a:pt x="44191" y="21600"/>
                </a:lnTo>
                <a:lnTo>
                  <a:pt x="42791" y="20200"/>
                </a:lnTo>
                <a:lnTo>
                  <a:pt x="42791" y="1400"/>
                </a:lnTo>
                <a:close/>
              </a:path>
              <a:path fill="darkenLess" w="44191" h="21600">
                <a:moveTo>
                  <a:pt x="44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91" y="20200"/>
                </a:lnTo>
                <a:close/>
              </a:path>
              <a:path fill="lighten" w="44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91" h="21600">
                <a:moveTo>
                  <a:pt x="15089" y="3794"/>
                </a:moveTo>
                <a:lnTo>
                  <a:pt x="29102" y="10800"/>
                </a:lnTo>
                <a:lnTo>
                  <a:pt x="150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3080" y="457200"/>
            <a:ext cx="2362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Începe să creasc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5257800" cy="6553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505320" y="2819520"/>
            <a:ext cx="571320" cy="76176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7772400" y="6172200"/>
            <a:ext cx="1042920" cy="433440"/>
          </a:xfrm>
          <a:custGeom>
            <a:avLst/>
            <a:gdLst>
              <a:gd name="textAreaLeft" fmla="*/ 28080 w 1042920"/>
              <a:gd name="textAreaRight" fmla="*/ 1014840 w 10429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1948" h="21600">
                <a:moveTo>
                  <a:pt x="0" y="0"/>
                </a:moveTo>
                <a:lnTo>
                  <a:pt x="51948" y="0"/>
                </a:lnTo>
                <a:lnTo>
                  <a:pt x="51948" y="21600"/>
                </a:lnTo>
                <a:lnTo>
                  <a:pt x="0" y="21600"/>
                </a:lnTo>
                <a:close/>
              </a:path>
              <a:path fill="lightenLess" w="51948" h="21600">
                <a:moveTo>
                  <a:pt x="0" y="0"/>
                </a:moveTo>
                <a:lnTo>
                  <a:pt x="51948" y="0"/>
                </a:lnTo>
                <a:lnTo>
                  <a:pt x="50548" y="1400"/>
                </a:lnTo>
                <a:lnTo>
                  <a:pt x="1400" y="1400"/>
                </a:lnTo>
                <a:close/>
              </a:path>
              <a:path fill="darken" w="51948" h="21600">
                <a:moveTo>
                  <a:pt x="51948" y="0"/>
                </a:moveTo>
                <a:lnTo>
                  <a:pt x="51948" y="21600"/>
                </a:lnTo>
                <a:lnTo>
                  <a:pt x="50548" y="20200"/>
                </a:lnTo>
                <a:lnTo>
                  <a:pt x="50548" y="1400"/>
                </a:lnTo>
                <a:close/>
              </a:path>
              <a:path fill="darkenLess" w="51948" h="21600">
                <a:moveTo>
                  <a:pt x="51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8" y="20200"/>
                </a:lnTo>
                <a:close/>
              </a:path>
              <a:path fill="lighten" w="51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8" h="21600">
                <a:moveTo>
                  <a:pt x="18967" y="3794"/>
                </a:moveTo>
                <a:lnTo>
                  <a:pt x="32980" y="10800"/>
                </a:lnTo>
                <a:lnTo>
                  <a:pt x="189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09720" y="380520"/>
            <a:ext cx="35053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Acum nu mai este un fulg. Este o femeie cu rochie albă, ce pare ţesută din mii de fulgi de zăpad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495680" cy="586728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101080" y="6400800"/>
            <a:ext cx="1042920" cy="457200"/>
          </a:xfrm>
          <a:custGeom>
            <a:avLst/>
            <a:gdLst>
              <a:gd name="textAreaLeft" fmla="*/ 29520 w 1042920"/>
              <a:gd name="textAreaRight" fmla="*/ 1013400 w 1042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50" h="21600">
                <a:moveTo>
                  <a:pt x="0" y="0"/>
                </a:moveTo>
                <a:lnTo>
                  <a:pt x="49250" y="0"/>
                </a:lnTo>
                <a:lnTo>
                  <a:pt x="49250" y="21600"/>
                </a:lnTo>
                <a:lnTo>
                  <a:pt x="0" y="21600"/>
                </a:lnTo>
                <a:close/>
              </a:path>
              <a:path fill="lightenLess" w="49250" h="21600">
                <a:moveTo>
                  <a:pt x="0" y="0"/>
                </a:moveTo>
                <a:lnTo>
                  <a:pt x="49250" y="0"/>
                </a:lnTo>
                <a:lnTo>
                  <a:pt x="47850" y="1400"/>
                </a:lnTo>
                <a:lnTo>
                  <a:pt x="1400" y="1400"/>
                </a:lnTo>
                <a:close/>
              </a:path>
              <a:path fill="darken" w="49250" h="21600">
                <a:moveTo>
                  <a:pt x="49250" y="0"/>
                </a:moveTo>
                <a:lnTo>
                  <a:pt x="49250" y="21600"/>
                </a:lnTo>
                <a:lnTo>
                  <a:pt x="47850" y="20200"/>
                </a:lnTo>
                <a:lnTo>
                  <a:pt x="47850" y="1400"/>
                </a:lnTo>
                <a:close/>
              </a:path>
              <a:path fill="darkenLess" w="49250" h="21600">
                <a:moveTo>
                  <a:pt x="49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50" y="20200"/>
                </a:lnTo>
                <a:close/>
              </a:path>
              <a:path fill="lighten" w="49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50" h="21600">
                <a:moveTo>
                  <a:pt x="17619" y="3794"/>
                </a:moveTo>
                <a:lnTo>
                  <a:pt x="31632" y="10800"/>
                </a:lnTo>
                <a:lnTo>
                  <a:pt x="176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5829480" cy="6629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19560" y="456840"/>
            <a:ext cx="281916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5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ro-RO" sz="4800" spc="-1" strike="noStrike">
                <a:solidFill>
                  <a:srgbClr val="000000"/>
                </a:solidFill>
                <a:latin typeface="Arial"/>
              </a:rPr>
              <a:t>frumoasă</a:t>
            </a:r>
            <a:r>
              <a:rPr b="0" lang="ro-RO" sz="5500" spc="-1" strike="noStrike">
                <a:solidFill>
                  <a:srgbClr val="000000"/>
                </a:solidFill>
                <a:latin typeface="Arial"/>
              </a:rPr>
              <a:t> este! Dar e de gheaţă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101080" y="6272280"/>
            <a:ext cx="1042920" cy="585720"/>
          </a:xfrm>
          <a:custGeom>
            <a:avLst/>
            <a:gdLst>
              <a:gd name="textAreaLeft" fmla="*/ 37800 w 1042920"/>
              <a:gd name="textAreaRight" fmla="*/ 1005120 w 10429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50" h="21600">
                <a:moveTo>
                  <a:pt x="0" y="0"/>
                </a:moveTo>
                <a:lnTo>
                  <a:pt x="38450" y="0"/>
                </a:lnTo>
                <a:lnTo>
                  <a:pt x="38450" y="21600"/>
                </a:lnTo>
                <a:lnTo>
                  <a:pt x="0" y="21600"/>
                </a:lnTo>
                <a:close/>
              </a:path>
              <a:path fill="lightenLess" w="38450" h="21600">
                <a:moveTo>
                  <a:pt x="0" y="0"/>
                </a:moveTo>
                <a:lnTo>
                  <a:pt x="38450" y="0"/>
                </a:lnTo>
                <a:lnTo>
                  <a:pt x="37050" y="1400"/>
                </a:lnTo>
                <a:lnTo>
                  <a:pt x="1400" y="1400"/>
                </a:lnTo>
                <a:close/>
              </a:path>
              <a:path fill="darken" w="38450" h="21600">
                <a:moveTo>
                  <a:pt x="38450" y="0"/>
                </a:moveTo>
                <a:lnTo>
                  <a:pt x="38450" y="21600"/>
                </a:lnTo>
                <a:lnTo>
                  <a:pt x="37050" y="20200"/>
                </a:lnTo>
                <a:lnTo>
                  <a:pt x="37050" y="1400"/>
                </a:lnTo>
                <a:close/>
              </a:path>
              <a:path fill="darkenLess" w="38450" h="21600">
                <a:moveTo>
                  <a:pt x="38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0" y="20200"/>
                </a:lnTo>
                <a:close/>
              </a:path>
              <a:path fill="lighten" w="38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0" h="21600">
                <a:moveTo>
                  <a:pt x="12219" y="3794"/>
                </a:moveTo>
                <a:lnTo>
                  <a:pt x="26232" y="10800"/>
                </a:lnTo>
                <a:lnTo>
                  <a:pt x="122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3760" y="228600"/>
            <a:ext cx="33526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000000"/>
                </a:solidFill>
                <a:latin typeface="Arial"/>
              </a:rPr>
              <a:t>A dat din cap şi a făcut băiatului un semn cu mân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62940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101080" y="6272280"/>
            <a:ext cx="1042920" cy="585720"/>
          </a:xfrm>
          <a:custGeom>
            <a:avLst/>
            <a:gdLst>
              <a:gd name="textAreaLeft" fmla="*/ 37800 w 1042920"/>
              <a:gd name="textAreaRight" fmla="*/ 1005120 w 10429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50" h="21600">
                <a:moveTo>
                  <a:pt x="0" y="0"/>
                </a:moveTo>
                <a:lnTo>
                  <a:pt x="38450" y="0"/>
                </a:lnTo>
                <a:lnTo>
                  <a:pt x="38450" y="21600"/>
                </a:lnTo>
                <a:lnTo>
                  <a:pt x="0" y="21600"/>
                </a:lnTo>
                <a:close/>
              </a:path>
              <a:path fill="lightenLess" w="38450" h="21600">
                <a:moveTo>
                  <a:pt x="0" y="0"/>
                </a:moveTo>
                <a:lnTo>
                  <a:pt x="38450" y="0"/>
                </a:lnTo>
                <a:lnTo>
                  <a:pt x="37050" y="1400"/>
                </a:lnTo>
                <a:lnTo>
                  <a:pt x="1400" y="1400"/>
                </a:lnTo>
                <a:close/>
              </a:path>
              <a:path fill="darken" w="38450" h="21600">
                <a:moveTo>
                  <a:pt x="38450" y="0"/>
                </a:moveTo>
                <a:lnTo>
                  <a:pt x="38450" y="21600"/>
                </a:lnTo>
                <a:lnTo>
                  <a:pt x="37050" y="20200"/>
                </a:lnTo>
                <a:lnTo>
                  <a:pt x="37050" y="1400"/>
                </a:lnTo>
                <a:close/>
              </a:path>
              <a:path fill="darkenLess" w="38450" h="21600">
                <a:moveTo>
                  <a:pt x="38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0" y="20200"/>
                </a:lnTo>
                <a:close/>
              </a:path>
              <a:path fill="lighten" w="38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0" h="21600">
                <a:moveTo>
                  <a:pt x="12219" y="3794"/>
                </a:moveTo>
                <a:lnTo>
                  <a:pt x="26232" y="10800"/>
                </a:lnTo>
                <a:lnTo>
                  <a:pt x="122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86040" y="152280"/>
            <a:ext cx="35053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700" spc="-1" strike="noStrike">
                <a:solidFill>
                  <a:srgbClr val="000000"/>
                </a:solidFill>
                <a:latin typeface="Arial"/>
              </a:rPr>
              <a:t>Dragi elevi, dacă doriţi să-l salvaţi pe Kay din împărăţia mea de gheaţă, va trebui să treceţi prin toate încercările la care am să vă supun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8101080" y="6424560"/>
            <a:ext cx="1042920" cy="433440"/>
          </a:xfrm>
          <a:custGeom>
            <a:avLst/>
            <a:gdLst>
              <a:gd name="textAreaLeft" fmla="*/ 28080 w 1042920"/>
              <a:gd name="textAreaRight" fmla="*/ 1014840 w 10429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1948" h="21600">
                <a:moveTo>
                  <a:pt x="0" y="0"/>
                </a:moveTo>
                <a:lnTo>
                  <a:pt x="51948" y="0"/>
                </a:lnTo>
                <a:lnTo>
                  <a:pt x="51948" y="21600"/>
                </a:lnTo>
                <a:lnTo>
                  <a:pt x="0" y="21600"/>
                </a:lnTo>
                <a:close/>
              </a:path>
              <a:path fill="lightenLess" w="51948" h="21600">
                <a:moveTo>
                  <a:pt x="0" y="0"/>
                </a:moveTo>
                <a:lnTo>
                  <a:pt x="51948" y="0"/>
                </a:lnTo>
                <a:lnTo>
                  <a:pt x="50548" y="1400"/>
                </a:lnTo>
                <a:lnTo>
                  <a:pt x="1400" y="1400"/>
                </a:lnTo>
                <a:close/>
              </a:path>
              <a:path fill="darken" w="51948" h="21600">
                <a:moveTo>
                  <a:pt x="51948" y="0"/>
                </a:moveTo>
                <a:lnTo>
                  <a:pt x="51948" y="21600"/>
                </a:lnTo>
                <a:lnTo>
                  <a:pt x="50548" y="20200"/>
                </a:lnTo>
                <a:lnTo>
                  <a:pt x="50548" y="1400"/>
                </a:lnTo>
                <a:close/>
              </a:path>
              <a:path fill="darkenLess" w="51948" h="21600">
                <a:moveTo>
                  <a:pt x="51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8" y="20200"/>
                </a:lnTo>
                <a:close/>
              </a:path>
              <a:path fill="lighten" w="51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8" h="21600">
                <a:moveTo>
                  <a:pt x="18967" y="3794"/>
                </a:moveTo>
                <a:lnTo>
                  <a:pt x="32980" y="10800"/>
                </a:lnTo>
                <a:lnTo>
                  <a:pt x="1896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3880" y="304920"/>
            <a:ext cx="6248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TA  LE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Ţ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990720"/>
            <a:ext cx="30477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TITLU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990720"/>
            <a:ext cx="31240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AUTORU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..............................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1523880"/>
            <a:ext cx="32767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NUMĂRUL ALINEATELOR:   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1523880"/>
            <a:ext cx="35812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NUMĂRUL FRAGMENTELOR: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905120"/>
            <a:ext cx="3429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RSONAJE REAL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1905120"/>
            <a:ext cx="3429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RSONAJE IMAGINA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514600"/>
            <a:ext cx="3733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TIMPUL ŞI LOC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ESFĂŞURĂRII ACŢIUNII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2514600"/>
            <a:ext cx="34290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DĂUGAŢI ÎNSUŞIRI PENTR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UVINTEL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RĂIASĂ 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FULG 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3429000"/>
            <a:ext cx="40388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GĂSIŢI CUVINTE  ASEMĂNĂTOARE PENTRU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ĂPADĂ  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EGINĂ 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RIVEŞTE 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3581280"/>
            <a:ext cx="40384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EU ZIC UNA, TU ZICI MULTE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LBINĂ  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FULG 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FEMEIE 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4648320"/>
            <a:ext cx="403884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LINTAŢI CUVINTEL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FLOARE  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ASĂ 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OCHIE 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4800600"/>
            <a:ext cx="4038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NUMIŢI ELEMENTELE IMAGINARE CE NU P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PĂREA ÎN REALITAT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867280"/>
            <a:ext cx="403884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UM EXPLICAŢI TITLUL ALES DE AUTO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5867280"/>
            <a:ext cx="358128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DAŢI EXEMPLE DE ALTE POVEŞ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CRISE DE ACELAŞI AUT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8329680" y="6400800"/>
            <a:ext cx="814320" cy="457200"/>
          </a:xfrm>
          <a:custGeom>
            <a:avLst/>
            <a:gdLst>
              <a:gd name="textAreaLeft" fmla="*/ 29520 w 814320"/>
              <a:gd name="textAreaRight" fmla="*/ 784800 w 814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8459" h="21600">
                <a:moveTo>
                  <a:pt x="0" y="0"/>
                </a:moveTo>
                <a:lnTo>
                  <a:pt x="38459" y="0"/>
                </a:lnTo>
                <a:lnTo>
                  <a:pt x="38459" y="21600"/>
                </a:lnTo>
                <a:lnTo>
                  <a:pt x="0" y="21600"/>
                </a:lnTo>
                <a:close/>
              </a:path>
              <a:path fill="lightenLess" w="38459" h="21600">
                <a:moveTo>
                  <a:pt x="0" y="0"/>
                </a:moveTo>
                <a:lnTo>
                  <a:pt x="38459" y="0"/>
                </a:lnTo>
                <a:lnTo>
                  <a:pt x="37059" y="1400"/>
                </a:lnTo>
                <a:lnTo>
                  <a:pt x="1400" y="1400"/>
                </a:lnTo>
                <a:close/>
              </a:path>
              <a:path fill="darken" w="38459" h="21600">
                <a:moveTo>
                  <a:pt x="38459" y="0"/>
                </a:moveTo>
                <a:lnTo>
                  <a:pt x="38459" y="21600"/>
                </a:lnTo>
                <a:lnTo>
                  <a:pt x="37059" y="20200"/>
                </a:lnTo>
                <a:lnTo>
                  <a:pt x="37059" y="1400"/>
                </a:lnTo>
                <a:close/>
              </a:path>
              <a:path fill="darkenLess" w="38459" h="21600">
                <a:moveTo>
                  <a:pt x="38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9" y="20200"/>
                </a:lnTo>
                <a:close/>
              </a:path>
              <a:path fill="lighten" w="38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9" h="21600">
                <a:moveTo>
                  <a:pt x="12223" y="3794"/>
                </a:moveTo>
                <a:lnTo>
                  <a:pt x="26236" y="10800"/>
                </a:lnTo>
                <a:lnTo>
                  <a:pt x="12223" y="17806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EXPLOZIA  STELAR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2514600"/>
            <a:ext cx="2971800" cy="29718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EXPLOZIA STELAR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3505320"/>
            <a:ext cx="10666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Â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2720" y="5562720"/>
            <a:ext cx="10666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UN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5562720"/>
            <a:ext cx="10670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3505320"/>
            <a:ext cx="10666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E 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1523880"/>
            <a:ext cx="1523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in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le-a povest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opiilor desp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răiasa Zapezi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31240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ând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etre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cţiunea d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lecţia ,,Crăia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ăpezii”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81680" y="51814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Unde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-a apăr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lui Kay Crăia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ăpezii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51814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e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roch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pu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răi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ăpezi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304812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De ce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 credeţ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că i s-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arătat Crăia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ăpezii lui Ka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101080" y="6400800"/>
            <a:ext cx="1042920" cy="457200"/>
          </a:xfrm>
          <a:custGeom>
            <a:avLst/>
            <a:gdLst>
              <a:gd name="textAreaLeft" fmla="*/ 29520 w 1042920"/>
              <a:gd name="textAreaRight" fmla="*/ 1013400 w 1042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50" h="21600">
                <a:moveTo>
                  <a:pt x="0" y="0"/>
                </a:moveTo>
                <a:lnTo>
                  <a:pt x="49250" y="0"/>
                </a:lnTo>
                <a:lnTo>
                  <a:pt x="49250" y="21600"/>
                </a:lnTo>
                <a:lnTo>
                  <a:pt x="0" y="21600"/>
                </a:lnTo>
                <a:close/>
              </a:path>
              <a:path fill="lightenLess" w="49250" h="21600">
                <a:moveTo>
                  <a:pt x="0" y="0"/>
                </a:moveTo>
                <a:lnTo>
                  <a:pt x="49250" y="0"/>
                </a:lnTo>
                <a:lnTo>
                  <a:pt x="47850" y="1400"/>
                </a:lnTo>
                <a:lnTo>
                  <a:pt x="1400" y="1400"/>
                </a:lnTo>
                <a:close/>
              </a:path>
              <a:path fill="darken" w="49250" h="21600">
                <a:moveTo>
                  <a:pt x="49250" y="0"/>
                </a:moveTo>
                <a:lnTo>
                  <a:pt x="49250" y="21600"/>
                </a:lnTo>
                <a:lnTo>
                  <a:pt x="47850" y="20200"/>
                </a:lnTo>
                <a:lnTo>
                  <a:pt x="47850" y="1400"/>
                </a:lnTo>
                <a:close/>
              </a:path>
              <a:path fill="darkenLess" w="49250" h="21600">
                <a:moveTo>
                  <a:pt x="49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50" y="20200"/>
                </a:lnTo>
                <a:close/>
              </a:path>
              <a:path fill="lighten" w="49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50" h="21600">
                <a:moveTo>
                  <a:pt x="17619" y="3794"/>
                </a:moveTo>
                <a:lnTo>
                  <a:pt x="31632" y="10800"/>
                </a:lnTo>
                <a:lnTo>
                  <a:pt x="176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IORCHIN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7200" y="1600200"/>
            <a:ext cx="8229240" cy="4525200"/>
            <a:chOff x="457200" y="1600200"/>
            <a:chExt cx="8229240" cy="4525200"/>
          </a:xfrm>
        </p:grpSpPr>
        <p:cxnSp>
          <p:nvCxnSpPr>
            <p:cNvPr id="46" name="_s96304"/>
            <p:cNvCxnSpPr>
              <a:stCxn id="47" idx="0"/>
              <a:endCxn id="48" idx="2"/>
            </p:cNvCxnSpPr>
            <p:nvPr/>
          </p:nvCxnSpPr>
          <p:spPr>
            <a:xfrm flipH="1" flipV="1" rot="5400000">
              <a:off x="8011080" y="3376440"/>
              <a:ext cx="323640" cy="180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96302"/>
            <p:cNvCxnSpPr>
              <a:stCxn id="48" idx="0"/>
              <a:endCxn id="50" idx="2"/>
            </p:cNvCxnSpPr>
            <p:nvPr/>
          </p:nvCxnSpPr>
          <p:spPr>
            <a:xfrm flipV="1" rot="16200000">
              <a:off x="6210720" y="606240"/>
              <a:ext cx="323640" cy="360216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96299"/>
            <p:cNvCxnSpPr>
              <a:stCxn id="52" idx="1"/>
              <a:endCxn id="53" idx="2"/>
            </p:cNvCxnSpPr>
            <p:nvPr/>
          </p:nvCxnSpPr>
          <p:spPr>
            <a:xfrm rot="10800000">
              <a:off x="5772960" y="4185360"/>
              <a:ext cx="17100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96297"/>
            <p:cNvCxnSpPr>
              <a:stCxn id="55" idx="1"/>
              <a:endCxn id="53" idx="2"/>
            </p:cNvCxnSpPr>
            <p:nvPr/>
          </p:nvCxnSpPr>
          <p:spPr>
            <a:xfrm rot="10800000">
              <a:off x="5772960" y="4185360"/>
              <a:ext cx="17100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96295"/>
            <p:cNvCxnSpPr>
              <a:stCxn id="57" idx="1"/>
              <a:endCxn id="58" idx="2"/>
            </p:cNvCxnSpPr>
            <p:nvPr/>
          </p:nvCxnSpPr>
          <p:spPr>
            <a:xfrm rot="10800000">
              <a:off x="3372840" y="4185360"/>
              <a:ext cx="17208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96293"/>
            <p:cNvCxnSpPr>
              <a:stCxn id="60" idx="1"/>
              <a:endCxn id="61" idx="2"/>
            </p:cNvCxnSpPr>
            <p:nvPr/>
          </p:nvCxnSpPr>
          <p:spPr>
            <a:xfrm rot="10800000">
              <a:off x="972000" y="4185360"/>
              <a:ext cx="17100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96291"/>
            <p:cNvCxnSpPr>
              <a:stCxn id="63" idx="1"/>
              <a:endCxn id="61" idx="2"/>
            </p:cNvCxnSpPr>
            <p:nvPr/>
          </p:nvCxnSpPr>
          <p:spPr>
            <a:xfrm rot="10800000">
              <a:off x="972000" y="4185360"/>
              <a:ext cx="17100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96289"/>
            <p:cNvCxnSpPr>
              <a:stCxn id="65" idx="0"/>
              <a:endCxn id="66" idx="2"/>
            </p:cNvCxnSpPr>
            <p:nvPr/>
          </p:nvCxnSpPr>
          <p:spPr>
            <a:xfrm flipV="1">
              <a:off x="4572720" y="3215520"/>
              <a:ext cx="1800" cy="32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96287"/>
            <p:cNvCxnSpPr>
              <a:stCxn id="61" idx="0"/>
              <a:endCxn id="68" idx="2"/>
            </p:cNvCxnSpPr>
            <p:nvPr/>
          </p:nvCxnSpPr>
          <p:spPr>
            <a:xfrm flipV="1" rot="16200000">
              <a:off x="810000" y="3376440"/>
              <a:ext cx="323640" cy="180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96285"/>
            <p:cNvCxnSpPr>
              <a:stCxn id="70" idx="0"/>
              <a:endCxn id="71" idx="2"/>
            </p:cNvCxnSpPr>
            <p:nvPr/>
          </p:nvCxnSpPr>
          <p:spPr>
            <a:xfrm flipV="1" rot="16200000">
              <a:off x="2010240" y="3376440"/>
              <a:ext cx="323640" cy="180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96283"/>
            <p:cNvCxnSpPr>
              <a:stCxn id="58" idx="0"/>
              <a:endCxn id="73" idx="2"/>
            </p:cNvCxnSpPr>
            <p:nvPr/>
          </p:nvCxnSpPr>
          <p:spPr>
            <a:xfrm flipV="1">
              <a:off x="3373200" y="3215520"/>
              <a:ext cx="1800" cy="32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96281"/>
            <p:cNvCxnSpPr>
              <a:stCxn id="75" idx="0"/>
              <a:endCxn id="76" idx="2"/>
            </p:cNvCxnSpPr>
            <p:nvPr/>
          </p:nvCxnSpPr>
          <p:spPr>
            <a:xfrm flipV="1" rot="16200000">
              <a:off x="6510960" y="3078000"/>
              <a:ext cx="323640" cy="59832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96277"/>
            <p:cNvCxnSpPr>
              <a:stCxn id="53" idx="0"/>
              <a:endCxn id="76" idx="2"/>
            </p:cNvCxnSpPr>
            <p:nvPr/>
          </p:nvCxnSpPr>
          <p:spPr>
            <a:xfrm flipH="1" flipV="1" rot="5400000">
              <a:off x="5911920" y="3076920"/>
              <a:ext cx="323640" cy="60084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96275"/>
            <p:cNvCxnSpPr>
              <a:stCxn id="76" idx="0"/>
              <a:endCxn id="50" idx="2"/>
            </p:cNvCxnSpPr>
            <p:nvPr/>
          </p:nvCxnSpPr>
          <p:spPr>
            <a:xfrm flipV="1" rot="16200000">
              <a:off x="5310720" y="1506240"/>
              <a:ext cx="323640" cy="180252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96273"/>
            <p:cNvCxnSpPr>
              <a:stCxn id="66" idx="0"/>
              <a:endCxn id="50" idx="2"/>
            </p:cNvCxnSpPr>
            <p:nvPr/>
          </p:nvCxnSpPr>
          <p:spPr>
            <a:xfrm flipV="1" rot="16200000">
              <a:off x="4410360" y="2406600"/>
              <a:ext cx="323640" cy="180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96271"/>
            <p:cNvCxnSpPr>
              <a:stCxn id="73" idx="0"/>
              <a:endCxn id="50" idx="2"/>
            </p:cNvCxnSpPr>
            <p:nvPr/>
          </p:nvCxnSpPr>
          <p:spPr>
            <a:xfrm flipH="1" flipV="1" rot="5400000">
              <a:off x="3810960" y="1808280"/>
              <a:ext cx="323640" cy="119880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96268"/>
            <p:cNvCxnSpPr>
              <a:stCxn id="71" idx="0"/>
              <a:endCxn id="50" idx="2"/>
            </p:cNvCxnSpPr>
            <p:nvPr/>
          </p:nvCxnSpPr>
          <p:spPr>
            <a:xfrm flipH="1" flipV="1" rot="5400000">
              <a:off x="3210120" y="1207440"/>
              <a:ext cx="323640" cy="240012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96267"/>
            <p:cNvCxnSpPr>
              <a:stCxn id="68" idx="0"/>
              <a:endCxn id="50" idx="2"/>
            </p:cNvCxnSpPr>
            <p:nvPr/>
          </p:nvCxnSpPr>
          <p:spPr>
            <a:xfrm flipH="1" flipV="1" rot="5400000">
              <a:off x="2610000" y="606960"/>
              <a:ext cx="323640" cy="3601080"/>
            </a:xfrm>
            <a:prstGeom prst="bentConnector3">
              <a:avLst>
                <a:gd name="adj1" fmla="val 35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0" name="_s96262"/>
            <p:cNvSpPr/>
            <p:nvPr/>
          </p:nvSpPr>
          <p:spPr>
            <a:xfrm>
              <a:off x="4057560" y="1600200"/>
              <a:ext cx="1028880" cy="646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CRĂIAS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ZĂPEZ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96264"/>
            <p:cNvSpPr/>
            <p:nvPr/>
          </p:nvSpPr>
          <p:spPr>
            <a:xfrm>
              <a:off x="457200" y="2569680"/>
              <a:ext cx="1028880" cy="646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ZÂ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ZĂPEZ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96265"/>
            <p:cNvSpPr/>
            <p:nvPr/>
          </p:nvSpPr>
          <p:spPr>
            <a:xfrm>
              <a:off x="1657440" y="2569680"/>
              <a:ext cx="1028880" cy="646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OMĂ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96270"/>
            <p:cNvSpPr/>
            <p:nvPr/>
          </p:nvSpPr>
          <p:spPr>
            <a:xfrm>
              <a:off x="2858040" y="2569680"/>
              <a:ext cx="1028880" cy="646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NINSOA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96272"/>
            <p:cNvSpPr/>
            <p:nvPr/>
          </p:nvSpPr>
          <p:spPr>
            <a:xfrm>
              <a:off x="4058640" y="2569680"/>
              <a:ext cx="1028880" cy="646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N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96274"/>
            <p:cNvSpPr/>
            <p:nvPr/>
          </p:nvSpPr>
          <p:spPr>
            <a:xfrm>
              <a:off x="5859360" y="2569680"/>
              <a:ext cx="1027440" cy="646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300" spc="-1" strike="noStrike">
                  <a:solidFill>
                    <a:srgbClr val="000000"/>
                  </a:solidFill>
                  <a:latin typeface="Arial"/>
                </a:rPr>
                <a:t>VRĂJITOA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96276"/>
            <p:cNvSpPr/>
            <p:nvPr/>
          </p:nvSpPr>
          <p:spPr>
            <a:xfrm>
              <a:off x="5259240" y="3539520"/>
              <a:ext cx="1027800" cy="64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VRAJ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96280"/>
            <p:cNvSpPr/>
            <p:nvPr/>
          </p:nvSpPr>
          <p:spPr>
            <a:xfrm>
              <a:off x="6458400" y="3539520"/>
              <a:ext cx="1027440" cy="64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MA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96282"/>
            <p:cNvSpPr/>
            <p:nvPr/>
          </p:nvSpPr>
          <p:spPr>
            <a:xfrm>
              <a:off x="2859120" y="3539520"/>
              <a:ext cx="1027800" cy="64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FUL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96284"/>
            <p:cNvSpPr/>
            <p:nvPr/>
          </p:nvSpPr>
          <p:spPr>
            <a:xfrm>
              <a:off x="1658520" y="3539520"/>
              <a:ext cx="1027800" cy="64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AL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96286"/>
            <p:cNvSpPr/>
            <p:nvPr/>
          </p:nvSpPr>
          <p:spPr>
            <a:xfrm>
              <a:off x="458280" y="3539520"/>
              <a:ext cx="1027800" cy="64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GHEAŢ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96288"/>
            <p:cNvSpPr/>
            <p:nvPr/>
          </p:nvSpPr>
          <p:spPr>
            <a:xfrm>
              <a:off x="4059720" y="3539520"/>
              <a:ext cx="1027800" cy="64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PUFOAS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96290"/>
            <p:cNvSpPr/>
            <p:nvPr/>
          </p:nvSpPr>
          <p:spPr>
            <a:xfrm>
              <a:off x="1143000" y="4509360"/>
              <a:ext cx="1027800" cy="6462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RE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96292"/>
            <p:cNvSpPr/>
            <p:nvPr/>
          </p:nvSpPr>
          <p:spPr>
            <a:xfrm>
              <a:off x="1143000" y="5479200"/>
              <a:ext cx="1027800" cy="646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S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96294"/>
            <p:cNvSpPr/>
            <p:nvPr/>
          </p:nvSpPr>
          <p:spPr>
            <a:xfrm>
              <a:off x="3544200" y="4509360"/>
              <a:ext cx="1027800" cy="6462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UŞ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96296"/>
            <p:cNvSpPr/>
            <p:nvPr/>
          </p:nvSpPr>
          <p:spPr>
            <a:xfrm>
              <a:off x="5943960" y="4509360"/>
              <a:ext cx="1027440" cy="64620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BUN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96298"/>
            <p:cNvSpPr/>
            <p:nvPr/>
          </p:nvSpPr>
          <p:spPr>
            <a:xfrm>
              <a:off x="5943960" y="5479200"/>
              <a:ext cx="1027440" cy="6462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400" spc="-1" strike="noStrike">
                  <a:solidFill>
                    <a:srgbClr val="000000"/>
                  </a:solidFill>
                  <a:latin typeface="Arial"/>
                </a:rPr>
                <a:t>R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96301"/>
            <p:cNvSpPr/>
            <p:nvPr/>
          </p:nvSpPr>
          <p:spPr>
            <a:xfrm>
              <a:off x="7659000" y="2569680"/>
              <a:ext cx="1027440" cy="64620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GIN</a:t>
              </a:r>
              <a:r>
                <a:rPr b="1" lang="ro-RO" sz="1300" spc="-1" strike="noStrike">
                  <a:solidFill>
                    <a:srgbClr val="000000"/>
                  </a:solidFill>
                  <a:latin typeface="Arial"/>
                </a:rPr>
                <a:t>Ă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96303"/>
            <p:cNvSpPr/>
            <p:nvPr/>
          </p:nvSpPr>
          <p:spPr>
            <a:xfrm>
              <a:off x="7657560" y="3539520"/>
              <a:ext cx="1028880" cy="646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o-RO" sz="1300" spc="-1" strike="noStrike">
                  <a:solidFill>
                    <a:srgbClr val="000000"/>
                  </a:solidFill>
                  <a:latin typeface="Arial"/>
                </a:rPr>
                <a:t>FRUMOASĂ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7924680" y="6272280"/>
            <a:ext cx="1043280" cy="585720"/>
          </a:xfrm>
          <a:custGeom>
            <a:avLst/>
            <a:gdLst>
              <a:gd name="textAreaLeft" fmla="*/ 37800 w 1043280"/>
              <a:gd name="textAreaRight" fmla="*/ 1005480 w 104328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63" h="21600">
                <a:moveTo>
                  <a:pt x="0" y="0"/>
                </a:moveTo>
                <a:lnTo>
                  <a:pt x="38463" y="0"/>
                </a:lnTo>
                <a:lnTo>
                  <a:pt x="38463" y="21600"/>
                </a:lnTo>
                <a:lnTo>
                  <a:pt x="0" y="21600"/>
                </a:lnTo>
                <a:close/>
              </a:path>
              <a:path fill="lightenLess" w="38463" h="21600">
                <a:moveTo>
                  <a:pt x="0" y="0"/>
                </a:moveTo>
                <a:lnTo>
                  <a:pt x="38463" y="0"/>
                </a:lnTo>
                <a:lnTo>
                  <a:pt x="37063" y="1400"/>
                </a:lnTo>
                <a:lnTo>
                  <a:pt x="1400" y="1400"/>
                </a:lnTo>
                <a:close/>
              </a:path>
              <a:path fill="darken" w="38463" h="21600">
                <a:moveTo>
                  <a:pt x="38463" y="0"/>
                </a:moveTo>
                <a:lnTo>
                  <a:pt x="38463" y="21600"/>
                </a:lnTo>
                <a:lnTo>
                  <a:pt x="37063" y="20200"/>
                </a:lnTo>
                <a:lnTo>
                  <a:pt x="37063" y="1400"/>
                </a:lnTo>
                <a:close/>
              </a:path>
              <a:path fill="darkenLess" w="38463" h="21600">
                <a:moveTo>
                  <a:pt x="38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63" y="20200"/>
                </a:lnTo>
                <a:close/>
              </a:path>
              <a:path fill="lighten" w="38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63" h="21600">
                <a:moveTo>
                  <a:pt x="12225" y="3794"/>
                </a:moveTo>
                <a:lnTo>
                  <a:pt x="26238" y="10800"/>
                </a:lnTo>
                <a:lnTo>
                  <a:pt x="1222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0" spc="-1" strike="noStrike">
                <a:solidFill>
                  <a:srgbClr val="000000"/>
                </a:solidFill>
                <a:latin typeface="Arial"/>
              </a:rPr>
              <a:t>CUBU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000" spc="-1" strike="noStrike">
                <a:solidFill>
                  <a:srgbClr val="333399"/>
                </a:solidFill>
                <a:latin typeface="Arial"/>
              </a:rPr>
              <a:t>DESCRIE</a:t>
            </a:r>
            <a:r>
              <a:rPr b="1" lang="ro-RO" sz="5000" spc="-1" strike="noStrike">
                <a:solidFill>
                  <a:srgbClr val="000000"/>
                </a:solidFill>
                <a:latin typeface="Arial"/>
              </a:rPr>
              <a:t>-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000" spc="-1" strike="noStrike">
                <a:solidFill>
                  <a:srgbClr val="000000"/>
                </a:solidFill>
                <a:latin typeface="Arial"/>
              </a:rPr>
              <a:t>PE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000" spc="-1" strike="noStrike">
                <a:solidFill>
                  <a:srgbClr val="000000"/>
                </a:solidFill>
                <a:latin typeface="Arial"/>
              </a:rPr>
              <a:t>CRĂIASA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000" spc="-1" strike="noStrike">
                <a:solidFill>
                  <a:srgbClr val="000000"/>
                </a:solidFill>
                <a:latin typeface="Arial"/>
              </a:rPr>
              <a:t>ZĂPEZII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7772400" y="6324480"/>
            <a:ext cx="1042920" cy="357480"/>
          </a:xfrm>
          <a:custGeom>
            <a:avLst/>
            <a:gdLst>
              <a:gd name="textAreaLeft" fmla="*/ 23040 w 1042920"/>
              <a:gd name="textAreaRight" fmla="*/ 1019880 w 1042920"/>
              <a:gd name="textAreaTop" fmla="*/ 23040 h 357480"/>
              <a:gd name="textAreaBottom" fmla="*/ 334440 h 357480"/>
            </a:gdLst>
            <a:ahLst/>
            <a:rect l="textAreaLeft" t="textAreaTop" r="textAreaRight" b="textAreaBottom"/>
            <a:pathLst>
              <a:path w="62975" h="21600">
                <a:moveTo>
                  <a:pt x="0" y="0"/>
                </a:moveTo>
                <a:lnTo>
                  <a:pt x="62975" y="0"/>
                </a:lnTo>
                <a:lnTo>
                  <a:pt x="62975" y="21600"/>
                </a:lnTo>
                <a:lnTo>
                  <a:pt x="0" y="21600"/>
                </a:lnTo>
                <a:close/>
              </a:path>
              <a:path fill="lightenLess" w="62975" h="21600">
                <a:moveTo>
                  <a:pt x="0" y="0"/>
                </a:moveTo>
                <a:lnTo>
                  <a:pt x="62975" y="0"/>
                </a:lnTo>
                <a:lnTo>
                  <a:pt x="61575" y="1400"/>
                </a:lnTo>
                <a:lnTo>
                  <a:pt x="1400" y="1400"/>
                </a:lnTo>
                <a:close/>
              </a:path>
              <a:path fill="darken" w="62975" h="21600">
                <a:moveTo>
                  <a:pt x="62975" y="0"/>
                </a:moveTo>
                <a:lnTo>
                  <a:pt x="62975" y="21600"/>
                </a:lnTo>
                <a:lnTo>
                  <a:pt x="61575" y="20200"/>
                </a:lnTo>
                <a:lnTo>
                  <a:pt x="61575" y="1400"/>
                </a:lnTo>
                <a:close/>
              </a:path>
              <a:path fill="darkenLess" w="62975" h="21600">
                <a:moveTo>
                  <a:pt x="62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575" y="20200"/>
                </a:lnTo>
                <a:close/>
              </a:path>
              <a:path fill="lighten" w="62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975" h="21600">
                <a:moveTo>
                  <a:pt x="24481" y="3794"/>
                </a:moveTo>
                <a:lnTo>
                  <a:pt x="38494" y="10800"/>
                </a:lnTo>
                <a:lnTo>
                  <a:pt x="244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The Snow Queen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0" spc="-1" strike="noStrike">
                <a:solidFill>
                  <a:srgbClr val="000000"/>
                </a:solidFill>
                <a:latin typeface="Arial"/>
              </a:rPr>
              <a:t>CUBU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9999"/>
                </a:solidFill>
                <a:latin typeface="Arial"/>
              </a:rPr>
              <a:t>COMPAR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VA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IAR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343400" y="1295280"/>
            <a:ext cx="4267080" cy="2686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343400" y="3962520"/>
            <a:ext cx="4267080" cy="274320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380880" y="5943600"/>
            <a:ext cx="1043280" cy="457200"/>
          </a:xfrm>
          <a:custGeom>
            <a:avLst/>
            <a:gdLst>
              <a:gd name="textAreaLeft" fmla="*/ 29520 w 1043280"/>
              <a:gd name="textAreaRight" fmla="*/ 1013760 w 1043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67" h="21600">
                <a:moveTo>
                  <a:pt x="0" y="0"/>
                </a:moveTo>
                <a:lnTo>
                  <a:pt x="49267" y="0"/>
                </a:lnTo>
                <a:lnTo>
                  <a:pt x="49267" y="21600"/>
                </a:lnTo>
                <a:lnTo>
                  <a:pt x="0" y="21600"/>
                </a:lnTo>
                <a:close/>
              </a:path>
              <a:path fill="lightenLess" w="49267" h="21600">
                <a:moveTo>
                  <a:pt x="0" y="0"/>
                </a:moveTo>
                <a:lnTo>
                  <a:pt x="49267" y="0"/>
                </a:lnTo>
                <a:lnTo>
                  <a:pt x="47867" y="1400"/>
                </a:lnTo>
                <a:lnTo>
                  <a:pt x="1400" y="1400"/>
                </a:lnTo>
                <a:close/>
              </a:path>
              <a:path fill="darken" w="49267" h="21600">
                <a:moveTo>
                  <a:pt x="49267" y="0"/>
                </a:moveTo>
                <a:lnTo>
                  <a:pt x="49267" y="21600"/>
                </a:lnTo>
                <a:lnTo>
                  <a:pt x="47867" y="20200"/>
                </a:lnTo>
                <a:lnTo>
                  <a:pt x="47867" y="1400"/>
                </a:lnTo>
                <a:close/>
              </a:path>
              <a:path fill="darkenLess" w="49267" h="21600">
                <a:moveTo>
                  <a:pt x="492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67" y="20200"/>
                </a:lnTo>
                <a:close/>
              </a:path>
              <a:path fill="lighten" w="492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67" h="21600">
                <a:moveTo>
                  <a:pt x="17627" y="3794"/>
                </a:moveTo>
                <a:lnTo>
                  <a:pt x="31640" y="10800"/>
                </a:lnTo>
                <a:lnTo>
                  <a:pt x="1762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0" spc="-1" strike="noStrike">
                <a:solidFill>
                  <a:srgbClr val="000000"/>
                </a:solidFill>
                <a:latin typeface="Arial"/>
              </a:rPr>
              <a:t>CUBU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276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300" spc="-1" strike="noStrike">
                <a:solidFill>
                  <a:srgbClr val="ff3300"/>
                </a:solidFill>
                <a:latin typeface="Arial"/>
              </a:rPr>
              <a:t>ASOCIAZ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CUVINTELE CU ÎNŢE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Arial"/>
              </a:rPr>
              <a:t>OPU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ALCĂTUIEŞ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PROPOZIŢII CU 3 DINTRE 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505320" y="1219320"/>
            <a:ext cx="5486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7772400" y="6172200"/>
            <a:ext cx="1042920" cy="457200"/>
          </a:xfrm>
          <a:custGeom>
            <a:avLst/>
            <a:gdLst>
              <a:gd name="textAreaLeft" fmla="*/ 29520 w 1042920"/>
              <a:gd name="textAreaRight" fmla="*/ 1013400 w 1042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50" h="21600">
                <a:moveTo>
                  <a:pt x="0" y="0"/>
                </a:moveTo>
                <a:lnTo>
                  <a:pt x="49250" y="0"/>
                </a:lnTo>
                <a:lnTo>
                  <a:pt x="49250" y="21600"/>
                </a:lnTo>
                <a:lnTo>
                  <a:pt x="0" y="21600"/>
                </a:lnTo>
                <a:close/>
              </a:path>
              <a:path fill="lightenLess" w="49250" h="21600">
                <a:moveTo>
                  <a:pt x="0" y="0"/>
                </a:moveTo>
                <a:lnTo>
                  <a:pt x="49250" y="0"/>
                </a:lnTo>
                <a:lnTo>
                  <a:pt x="47850" y="1400"/>
                </a:lnTo>
                <a:lnTo>
                  <a:pt x="1400" y="1400"/>
                </a:lnTo>
                <a:close/>
              </a:path>
              <a:path fill="darken" w="49250" h="21600">
                <a:moveTo>
                  <a:pt x="49250" y="0"/>
                </a:moveTo>
                <a:lnTo>
                  <a:pt x="49250" y="21600"/>
                </a:lnTo>
                <a:lnTo>
                  <a:pt x="47850" y="20200"/>
                </a:lnTo>
                <a:lnTo>
                  <a:pt x="47850" y="1400"/>
                </a:lnTo>
                <a:close/>
              </a:path>
              <a:path fill="darkenLess" w="49250" h="21600">
                <a:moveTo>
                  <a:pt x="49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50" y="20200"/>
                </a:lnTo>
                <a:close/>
              </a:path>
              <a:path fill="lighten" w="49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50" h="21600">
                <a:moveTo>
                  <a:pt x="17619" y="3794"/>
                </a:moveTo>
                <a:lnTo>
                  <a:pt x="31632" y="10800"/>
                </a:lnTo>
                <a:lnTo>
                  <a:pt x="176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48320" y="1371600"/>
            <a:ext cx="1828800" cy="388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a îngheţ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a por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urât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scul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a între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81680" y="1371600"/>
            <a:ext cx="205740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noap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a dezgheţ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a răspun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culc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frumoas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a se op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0" spc="-1" strike="noStrike">
                <a:solidFill>
                  <a:srgbClr val="000000"/>
                </a:solidFill>
                <a:latin typeface="Arial"/>
              </a:rPr>
              <a:t>CUBU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66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66ff33"/>
                </a:solidFill>
                <a:latin typeface="Arial"/>
              </a:rPr>
              <a:t>ANALIZEAZ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ff0000"/>
                </a:solidFill>
                <a:latin typeface="Arial"/>
              </a:rPr>
              <a:t>ÎNCERCUIŢI VARIANTELE POTRIVI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23720" y="1523880"/>
            <a:ext cx="5867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Flori sclipitoare de argint se ţes pe geamuri” arată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florile de gheaţă sunt albe şi sclipesc în lumină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florile de gheaţă de pe geamuri par draperii ţesute de o mână măiastră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fulgi de zăpadă se prind de geamuri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Crăiasa Zăpezii” înseamnă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regina are putere mar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e conducătoarea fulgilor de zăpadă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se aseamănă cu regina albinelo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femeie cu rochie albă, ce pare ţesută din mii de fulgi de zăpadă” sugerează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o femeie îmbrăcată în alb, cu faţa albă i s-a arătat băiatului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copilului i s-a părut că o vede pe Crăiasa Zăpezii cu o frumoasă rochie albă alcătuită din fulgi de zăpadă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fulgii de zăpadă erau deşi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Lectura est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o legendă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o povest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o descriere de iarnă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7467480" y="6324480"/>
            <a:ext cx="1043280" cy="381240"/>
          </a:xfrm>
          <a:custGeom>
            <a:avLst/>
            <a:gdLst>
              <a:gd name="textAreaLeft" fmla="*/ 24480 w 1043280"/>
              <a:gd name="textAreaRight" fmla="*/ 1018800 w 10432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59074" h="21600">
                <a:moveTo>
                  <a:pt x="0" y="0"/>
                </a:moveTo>
                <a:lnTo>
                  <a:pt x="59074" y="0"/>
                </a:lnTo>
                <a:lnTo>
                  <a:pt x="59074" y="21600"/>
                </a:lnTo>
                <a:lnTo>
                  <a:pt x="0" y="21600"/>
                </a:lnTo>
                <a:close/>
              </a:path>
              <a:path fill="lightenLess" w="59074" h="21600">
                <a:moveTo>
                  <a:pt x="0" y="0"/>
                </a:moveTo>
                <a:lnTo>
                  <a:pt x="59074" y="0"/>
                </a:lnTo>
                <a:lnTo>
                  <a:pt x="57674" y="1400"/>
                </a:lnTo>
                <a:lnTo>
                  <a:pt x="1400" y="1400"/>
                </a:lnTo>
                <a:close/>
              </a:path>
              <a:path fill="darken" w="59074" h="21600">
                <a:moveTo>
                  <a:pt x="59074" y="0"/>
                </a:moveTo>
                <a:lnTo>
                  <a:pt x="59074" y="21600"/>
                </a:lnTo>
                <a:lnTo>
                  <a:pt x="57674" y="20200"/>
                </a:lnTo>
                <a:lnTo>
                  <a:pt x="57674" y="1400"/>
                </a:lnTo>
                <a:close/>
              </a:path>
              <a:path fill="darkenLess" w="59074" h="21600">
                <a:moveTo>
                  <a:pt x="590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74" y="20200"/>
                </a:lnTo>
                <a:close/>
              </a:path>
              <a:path fill="lighten" w="590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074" h="21600">
                <a:moveTo>
                  <a:pt x="22530" y="3794"/>
                </a:moveTo>
                <a:lnTo>
                  <a:pt x="36543" y="10800"/>
                </a:lnTo>
                <a:lnTo>
                  <a:pt x="225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0" spc="-1" strike="noStrike">
                <a:solidFill>
                  <a:srgbClr val="000000"/>
                </a:solidFill>
                <a:latin typeface="Arial"/>
              </a:rPr>
              <a:t>CUBU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9933ff"/>
                </a:solidFill>
                <a:latin typeface="Arial"/>
              </a:rPr>
              <a:t>APLIC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9933ff"/>
                </a:solidFill>
                <a:latin typeface="Arial"/>
              </a:rPr>
              <a:t>ALCĂTUIEŞTE CÂTE O PROPOZIŢIE, LA SFÂRŞITUL CĂREIA SĂ SE AFLE UNUL DIN URMĂTOARELE SEMNE DE PUNCTUAŢIE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9933ff"/>
                </a:solidFill>
                <a:latin typeface="Arial"/>
              </a:rPr>
              <a:t>“ </a:t>
            </a:r>
            <a:r>
              <a:rPr b="1" lang="ro-RO" sz="2500" spc="-1" strike="noStrike">
                <a:solidFill>
                  <a:srgbClr val="9933ff"/>
                </a:solidFill>
                <a:latin typeface="Arial"/>
              </a:rPr>
              <a:t>. ”; “?”; “!” 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9933ff"/>
                </a:solidFill>
                <a:latin typeface="Arial"/>
              </a:rPr>
              <a:t>FOLOSINDU-TE DE CUVINTE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9933ff"/>
                </a:solidFill>
                <a:latin typeface="Arial"/>
              </a:rPr>
              <a:t>“ </a:t>
            </a:r>
            <a:r>
              <a:rPr b="1" lang="ro-RO" sz="2500" spc="-1" strike="noStrike">
                <a:solidFill>
                  <a:srgbClr val="ff0000"/>
                </a:solidFill>
                <a:latin typeface="Arial"/>
              </a:rPr>
              <a:t>CRĂIASA ZĂPEZII</a:t>
            </a:r>
            <a:r>
              <a:rPr b="1" lang="ro-RO" sz="2500" spc="-1" strike="noStrike">
                <a:solidFill>
                  <a:srgbClr val="9933ff"/>
                </a:solidFill>
                <a:latin typeface="Arial"/>
              </a:rPr>
              <a:t>”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UPĂ CE AI TERMINAT, DĂ CLICK PE FIECARE IMAG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043280" cy="457200"/>
          </a:xfrm>
          <a:custGeom>
            <a:avLst/>
            <a:gdLst>
              <a:gd name="textAreaLeft" fmla="*/ 29520 w 1043280"/>
              <a:gd name="textAreaRight" fmla="*/ 1013760 w 1043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67" h="21600">
                <a:moveTo>
                  <a:pt x="0" y="0"/>
                </a:moveTo>
                <a:lnTo>
                  <a:pt x="49267" y="0"/>
                </a:lnTo>
                <a:lnTo>
                  <a:pt x="49267" y="21600"/>
                </a:lnTo>
                <a:lnTo>
                  <a:pt x="0" y="21600"/>
                </a:lnTo>
                <a:close/>
              </a:path>
              <a:path fill="lightenLess" w="49267" h="21600">
                <a:moveTo>
                  <a:pt x="0" y="0"/>
                </a:moveTo>
                <a:lnTo>
                  <a:pt x="49267" y="0"/>
                </a:lnTo>
                <a:lnTo>
                  <a:pt x="47867" y="1400"/>
                </a:lnTo>
                <a:lnTo>
                  <a:pt x="1400" y="1400"/>
                </a:lnTo>
                <a:close/>
              </a:path>
              <a:path fill="darken" w="49267" h="21600">
                <a:moveTo>
                  <a:pt x="49267" y="0"/>
                </a:moveTo>
                <a:lnTo>
                  <a:pt x="49267" y="21600"/>
                </a:lnTo>
                <a:lnTo>
                  <a:pt x="47867" y="20200"/>
                </a:lnTo>
                <a:lnTo>
                  <a:pt x="47867" y="1400"/>
                </a:lnTo>
                <a:close/>
              </a:path>
              <a:path fill="darkenLess" w="49267" h="21600">
                <a:moveTo>
                  <a:pt x="492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67" y="20200"/>
                </a:lnTo>
                <a:close/>
              </a:path>
              <a:path fill="lighten" w="492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67" h="21600">
                <a:moveTo>
                  <a:pt x="17627" y="3794"/>
                </a:moveTo>
                <a:lnTo>
                  <a:pt x="31640" y="10800"/>
                </a:lnTo>
                <a:lnTo>
                  <a:pt x="1762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1447920"/>
            <a:ext cx="335268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o-RO" sz="8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4800600"/>
            <a:ext cx="33526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o-RO" sz="8000" spc="-1" strike="noStrike">
                <a:solidFill>
                  <a:srgbClr val="000000"/>
                </a:solidFill>
                <a:latin typeface="Arial"/>
              </a:rPr>
              <a:t>!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57800" y="3124080"/>
            <a:ext cx="3352680" cy="1295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o-RO" sz="80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000" spc="-1" strike="noStrike">
                <a:solidFill>
                  <a:srgbClr val="000000"/>
                </a:solidFill>
                <a:latin typeface="Arial"/>
              </a:rPr>
              <a:t>CUBUL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500" spc="-1" strike="noStrike">
                <a:solidFill>
                  <a:srgbClr val="ff33cc"/>
                </a:solidFill>
                <a:latin typeface="Arial"/>
              </a:rPr>
              <a:t>ARGUMENTEAZ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500" spc="-1" strike="noStrike">
                <a:solidFill>
                  <a:srgbClr val="000000"/>
                </a:solidFill>
                <a:latin typeface="Arial"/>
              </a:rPr>
              <a:t>DE CE CREZI CĂ L-A ALES CRĂIASA ZĂPEZII PE KAY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7772400" y="6248520"/>
            <a:ext cx="1042920" cy="457200"/>
          </a:xfrm>
          <a:custGeom>
            <a:avLst/>
            <a:gdLst>
              <a:gd name="textAreaLeft" fmla="*/ 29520 w 1042920"/>
              <a:gd name="textAreaRight" fmla="*/ 1013400 w 1042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9250" h="21600">
                <a:moveTo>
                  <a:pt x="0" y="0"/>
                </a:moveTo>
                <a:lnTo>
                  <a:pt x="49250" y="0"/>
                </a:lnTo>
                <a:lnTo>
                  <a:pt x="49250" y="21600"/>
                </a:lnTo>
                <a:lnTo>
                  <a:pt x="0" y="21600"/>
                </a:lnTo>
                <a:close/>
              </a:path>
              <a:path fill="lightenLess" w="49250" h="21600">
                <a:moveTo>
                  <a:pt x="0" y="0"/>
                </a:moveTo>
                <a:lnTo>
                  <a:pt x="49250" y="0"/>
                </a:lnTo>
                <a:lnTo>
                  <a:pt x="47850" y="1400"/>
                </a:lnTo>
                <a:lnTo>
                  <a:pt x="1400" y="1400"/>
                </a:lnTo>
                <a:close/>
              </a:path>
              <a:path fill="darken" w="49250" h="21600">
                <a:moveTo>
                  <a:pt x="49250" y="0"/>
                </a:moveTo>
                <a:lnTo>
                  <a:pt x="49250" y="21600"/>
                </a:lnTo>
                <a:lnTo>
                  <a:pt x="47850" y="20200"/>
                </a:lnTo>
                <a:lnTo>
                  <a:pt x="47850" y="1400"/>
                </a:lnTo>
                <a:close/>
              </a:path>
              <a:path fill="darkenLess" w="49250" h="21600">
                <a:moveTo>
                  <a:pt x="49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850" y="20200"/>
                </a:lnTo>
                <a:close/>
              </a:path>
              <a:path fill="lighten" w="49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250" h="21600">
                <a:moveTo>
                  <a:pt x="17619" y="3794"/>
                </a:moveTo>
                <a:lnTo>
                  <a:pt x="31632" y="10800"/>
                </a:lnTo>
                <a:lnTo>
                  <a:pt x="176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762440" y="1828800"/>
            <a:ext cx="4152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53352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METODA  CADRANE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1066680"/>
          <a:ext cx="8686800" cy="504216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297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crieţi din lecţie numai propoziţiile care au la sfârşitul lor semnul întrebăr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....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.....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ieţi câte un enunţ despre fiecare personaj care apare în lecţie. (bunica, fetiţa, băiatul, Crăiasa Zăpezi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.....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......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ţi în 4-5 rânduri, un dialog între voi şi Crăiasa Zăpez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.....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</a:t>
                      </a:r>
                      <a:r>
                        <a:rPr b="0" lang="ro-RO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....................................................................................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naţi-o pe Crăiasa Zăpezi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7696080" y="6248520"/>
            <a:ext cx="1043280" cy="433440"/>
          </a:xfrm>
          <a:custGeom>
            <a:avLst/>
            <a:gdLst>
              <a:gd name="textAreaLeft" fmla="*/ 28080 w 1043280"/>
              <a:gd name="textAreaRight" fmla="*/ 1015200 w 104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1965" h="21600">
                <a:moveTo>
                  <a:pt x="0" y="0"/>
                </a:moveTo>
                <a:lnTo>
                  <a:pt x="51965" y="0"/>
                </a:lnTo>
                <a:lnTo>
                  <a:pt x="51965" y="21600"/>
                </a:lnTo>
                <a:lnTo>
                  <a:pt x="0" y="21600"/>
                </a:lnTo>
                <a:close/>
              </a:path>
              <a:path fill="lightenLess" w="51965" h="21600">
                <a:moveTo>
                  <a:pt x="0" y="0"/>
                </a:moveTo>
                <a:lnTo>
                  <a:pt x="51965" y="0"/>
                </a:lnTo>
                <a:lnTo>
                  <a:pt x="50565" y="1400"/>
                </a:lnTo>
                <a:lnTo>
                  <a:pt x="1400" y="1400"/>
                </a:lnTo>
                <a:close/>
              </a:path>
              <a:path fill="darken" w="51965" h="21600">
                <a:moveTo>
                  <a:pt x="51965" y="0"/>
                </a:moveTo>
                <a:lnTo>
                  <a:pt x="51965" y="21600"/>
                </a:lnTo>
                <a:lnTo>
                  <a:pt x="50565" y="20200"/>
                </a:lnTo>
                <a:lnTo>
                  <a:pt x="50565" y="1400"/>
                </a:lnTo>
                <a:close/>
              </a:path>
              <a:path fill="darkenLess" w="51965" h="21600">
                <a:moveTo>
                  <a:pt x="5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65" y="20200"/>
                </a:lnTo>
                <a:close/>
              </a:path>
              <a:path fill="lighten" w="5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65" h="21600">
                <a:moveTo>
                  <a:pt x="18976" y="3794"/>
                </a:moveTo>
                <a:lnTo>
                  <a:pt x="32989" y="10800"/>
                </a:lnTo>
                <a:lnTo>
                  <a:pt x="189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UN CUVÂNT POATE AVEA MAI MULTE ÎNŢELESUR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lege înţelesul cuvintelor scrise cu roşu, dând click pe una din explicaţiile sublini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Mama a pus două cuburi de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în suc.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o-RO" sz="3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pă solidă</a:t>
            </a: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      apă fierbinte</a:t>
            </a:r>
            <a:r>
              <a:rPr b="0" lang="en-US" sz="3000" spc="-1" strike="noStrike">
                <a:solidFill>
                  <a:srgbClr val="6600ff"/>
                </a:solidFill>
                <a:latin typeface="Arial"/>
              </a:rPr>
              <a:t>     </a:t>
            </a: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apă mineral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2) Urşii polari trăiesc în zonele de </a:t>
            </a:r>
            <a:r>
              <a:rPr b="0" lang="ro-RO" sz="30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zone reci        zone calde</a:t>
            </a:r>
            <a:r>
              <a:rPr b="0" lang="en-US" sz="3000" spc="-1" strike="noStrike">
                <a:solidFill>
                  <a:srgbClr val="6600ff"/>
                </a:solidFill>
                <a:latin typeface="Arial"/>
              </a:rPr>
              <a:t>       </a:t>
            </a: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zone de apă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3) Crăiasa Zăpezii avea inima de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apă solidă</a:t>
            </a:r>
            <a:r>
              <a:rPr b="0" lang="en-US" sz="30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nepăsătoare       floare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4) Bunica a cumpărat de la florărie o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apă solidă</a:t>
            </a:r>
            <a:r>
              <a:rPr b="0" lang="en-US" sz="3000" spc="-1" strike="noStrike">
                <a:solidFill>
                  <a:srgbClr val="6600ff"/>
                </a:solidFill>
                <a:latin typeface="Arial"/>
              </a:rPr>
              <a:t>      </a:t>
            </a: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nepăsătoare         flo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5) La cofetărie am plătit cu bani </a:t>
            </a:r>
            <a:r>
              <a:rPr b="0" lang="ro-RO" sz="32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0" lang="ro-RO" sz="2800" spc="-1" strike="noStrike">
                <a:solidFill>
                  <a:srgbClr val="6600ff"/>
                </a:solidFill>
                <a:latin typeface="Arial"/>
              </a:rPr>
              <a:t>bani reci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6600ff"/>
                </a:solidFill>
                <a:latin typeface="Arial"/>
              </a:rPr>
              <a:t>bani plătiţi pe loc  bani în formă de flo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8101080" y="6553080"/>
            <a:ext cx="1042920" cy="304920"/>
          </a:xfrm>
          <a:custGeom>
            <a:avLst/>
            <a:gdLst>
              <a:gd name="textAreaLeft" fmla="*/ 19440 w 1042920"/>
              <a:gd name="textAreaRight" fmla="*/ 1023480 w 1042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3817" h="21600">
                <a:moveTo>
                  <a:pt x="0" y="0"/>
                </a:moveTo>
                <a:lnTo>
                  <a:pt x="73817" y="0"/>
                </a:lnTo>
                <a:lnTo>
                  <a:pt x="73817" y="21600"/>
                </a:lnTo>
                <a:lnTo>
                  <a:pt x="0" y="21600"/>
                </a:lnTo>
                <a:close/>
              </a:path>
              <a:path fill="lightenLess" w="73817" h="21600">
                <a:moveTo>
                  <a:pt x="0" y="0"/>
                </a:moveTo>
                <a:lnTo>
                  <a:pt x="73817" y="0"/>
                </a:lnTo>
                <a:lnTo>
                  <a:pt x="72417" y="1400"/>
                </a:lnTo>
                <a:lnTo>
                  <a:pt x="1400" y="1400"/>
                </a:lnTo>
                <a:close/>
              </a:path>
              <a:path fill="darken" w="73817" h="21600">
                <a:moveTo>
                  <a:pt x="73817" y="0"/>
                </a:moveTo>
                <a:lnTo>
                  <a:pt x="73817" y="21600"/>
                </a:lnTo>
                <a:lnTo>
                  <a:pt x="72417" y="20200"/>
                </a:lnTo>
                <a:lnTo>
                  <a:pt x="72417" y="1400"/>
                </a:lnTo>
                <a:close/>
              </a:path>
              <a:path fill="darkenLess" w="73817" h="21600">
                <a:moveTo>
                  <a:pt x="7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17" y="20200"/>
                </a:lnTo>
                <a:close/>
              </a:path>
              <a:path fill="lighten" w="7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817" h="21600">
                <a:moveTo>
                  <a:pt x="29902" y="3794"/>
                </a:moveTo>
                <a:lnTo>
                  <a:pt x="43915" y="10800"/>
                </a:lnTo>
                <a:lnTo>
                  <a:pt x="299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SĂ NE JUCĂ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3300"/>
                </a:solidFill>
                <a:latin typeface="Arial"/>
              </a:rPr>
              <a:t>PORNIND DE LA DESENUL UNUI FULG DE NEA, DESENEAZĂ TOT FELUL DE OBIECTE SAU FIINŢE REALE SAU IMAGI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486400" y="20574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638680" y="1676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477120" y="14479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019920" y="14479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781680" y="1523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7010280" y="1828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7162920" y="22096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7162920" y="25909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7010280" y="2971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6781680" y="32767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1"/>
          <a:stretch/>
        </p:blipFill>
        <p:spPr>
          <a:xfrm>
            <a:off x="6629400" y="35812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2"/>
          <a:stretch/>
        </p:blipFill>
        <p:spPr>
          <a:xfrm>
            <a:off x="6477120" y="38862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3"/>
          <a:stretch/>
        </p:blipFill>
        <p:spPr>
          <a:xfrm>
            <a:off x="6400800" y="42670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4"/>
          <a:stretch/>
        </p:blipFill>
        <p:spPr>
          <a:xfrm>
            <a:off x="6400800" y="4572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5"/>
          <a:stretch/>
        </p:blipFill>
        <p:spPr>
          <a:xfrm>
            <a:off x="6400800" y="54100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848720" y="6019920"/>
            <a:ext cx="1042920" cy="50940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44207" h="21600">
                <a:moveTo>
                  <a:pt x="0" y="0"/>
                </a:moveTo>
                <a:lnTo>
                  <a:pt x="44207" y="0"/>
                </a:lnTo>
                <a:lnTo>
                  <a:pt x="44207" y="21600"/>
                </a:lnTo>
                <a:lnTo>
                  <a:pt x="0" y="21600"/>
                </a:lnTo>
                <a:close/>
              </a:path>
              <a:path fill="lightenLess" w="44207" h="21600">
                <a:moveTo>
                  <a:pt x="0" y="0"/>
                </a:moveTo>
                <a:lnTo>
                  <a:pt x="44207" y="0"/>
                </a:lnTo>
                <a:lnTo>
                  <a:pt x="42807" y="1400"/>
                </a:lnTo>
                <a:lnTo>
                  <a:pt x="1400" y="1400"/>
                </a:lnTo>
                <a:close/>
              </a:path>
              <a:path fill="darken" w="44207" h="21600">
                <a:moveTo>
                  <a:pt x="44207" y="0"/>
                </a:moveTo>
                <a:lnTo>
                  <a:pt x="44207" y="21600"/>
                </a:lnTo>
                <a:lnTo>
                  <a:pt x="42807" y="20200"/>
                </a:lnTo>
                <a:lnTo>
                  <a:pt x="42807" y="1400"/>
                </a:lnTo>
                <a:close/>
              </a:path>
              <a:path fill="darkenLess" w="44207" h="21600">
                <a:moveTo>
                  <a:pt x="442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807" y="20200"/>
                </a:lnTo>
                <a:close/>
              </a:path>
              <a:path fill="lighten" w="442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207" h="21600">
                <a:moveTo>
                  <a:pt x="15097" y="3794"/>
                </a:moveTo>
                <a:lnTo>
                  <a:pt x="29110" y="10800"/>
                </a:lnTo>
                <a:lnTo>
                  <a:pt x="150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000000"/>
                </a:solidFill>
                <a:latin typeface="Arial"/>
              </a:rPr>
              <a:t>Crăiasa Zăpezii a apărut la fereastr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152280" y="5715000"/>
            <a:ext cx="1043280" cy="380880"/>
          </a:xfrm>
          <a:custGeom>
            <a:avLst/>
            <a:gdLst>
              <a:gd name="textAreaLeft" fmla="*/ 24480 w 1043280"/>
              <a:gd name="textAreaRight" fmla="*/ 1018800 w 1043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30" h="21600">
                <a:moveTo>
                  <a:pt x="0" y="0"/>
                </a:moveTo>
                <a:lnTo>
                  <a:pt x="59130" y="0"/>
                </a:lnTo>
                <a:lnTo>
                  <a:pt x="59130" y="21600"/>
                </a:lnTo>
                <a:lnTo>
                  <a:pt x="0" y="21600"/>
                </a:lnTo>
                <a:close/>
              </a:path>
              <a:path fill="lightenLess" w="59130" h="21600">
                <a:moveTo>
                  <a:pt x="0" y="0"/>
                </a:moveTo>
                <a:lnTo>
                  <a:pt x="59130" y="0"/>
                </a:lnTo>
                <a:lnTo>
                  <a:pt x="57730" y="1400"/>
                </a:lnTo>
                <a:lnTo>
                  <a:pt x="1400" y="1400"/>
                </a:lnTo>
                <a:close/>
              </a:path>
              <a:path fill="darken" w="59130" h="21600">
                <a:moveTo>
                  <a:pt x="59130" y="0"/>
                </a:moveTo>
                <a:lnTo>
                  <a:pt x="59130" y="21600"/>
                </a:lnTo>
                <a:lnTo>
                  <a:pt x="57730" y="20200"/>
                </a:lnTo>
                <a:lnTo>
                  <a:pt x="57730" y="1400"/>
                </a:lnTo>
                <a:close/>
              </a:path>
              <a:path fill="darkenLess" w="59130" h="21600">
                <a:moveTo>
                  <a:pt x="59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0" y="20200"/>
                </a:lnTo>
                <a:close/>
              </a:path>
              <a:path fill="lighten" w="59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0" h="21600">
                <a:moveTo>
                  <a:pt x="22558" y="10800"/>
                </a:moveTo>
                <a:lnTo>
                  <a:pt x="36571" y="3794"/>
                </a:lnTo>
                <a:lnTo>
                  <a:pt x="3657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Flori de gheata"/>
          <p:cNvPicPr/>
          <p:nvPr/>
        </p:nvPicPr>
        <p:blipFill>
          <a:blip r:embed="rId1"/>
          <a:stretch/>
        </p:blipFill>
        <p:spPr>
          <a:xfrm>
            <a:off x="0" y="0"/>
            <a:ext cx="4524480" cy="6791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8840" y="609120"/>
            <a:ext cx="3352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000000"/>
                </a:solidFill>
                <a:latin typeface="Arial"/>
              </a:rPr>
              <a:t>Flori </a:t>
            </a:r>
            <a:r>
              <a:rPr b="0" lang="ro-RO" sz="5500" spc="-1" strike="noStrike">
                <a:solidFill>
                  <a:srgbClr val="000000"/>
                </a:solidFill>
                <a:latin typeface="Arial"/>
              </a:rPr>
              <a:t>sclipitoare </a:t>
            </a:r>
            <a:r>
              <a:rPr b="0" lang="ro-RO" sz="6000" spc="-1" strike="noStrike">
                <a:solidFill>
                  <a:srgbClr val="000000"/>
                </a:solidFill>
                <a:latin typeface="Arial"/>
              </a:rPr>
              <a:t>de argint se ţes pe geamuri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7924680" y="6324480"/>
            <a:ext cx="1043280" cy="533520"/>
          </a:xfrm>
          <a:custGeom>
            <a:avLst/>
            <a:gdLst>
              <a:gd name="textAreaLeft" fmla="*/ 34560 w 1043280"/>
              <a:gd name="textAreaRight" fmla="*/ 1008720 w 1043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2224" h="21600">
                <a:moveTo>
                  <a:pt x="0" y="0"/>
                </a:moveTo>
                <a:lnTo>
                  <a:pt x="42224" y="0"/>
                </a:lnTo>
                <a:lnTo>
                  <a:pt x="42224" y="21600"/>
                </a:lnTo>
                <a:lnTo>
                  <a:pt x="0" y="21600"/>
                </a:lnTo>
                <a:close/>
              </a:path>
              <a:path fill="lightenLess" w="42224" h="21600">
                <a:moveTo>
                  <a:pt x="0" y="0"/>
                </a:moveTo>
                <a:lnTo>
                  <a:pt x="42224" y="0"/>
                </a:lnTo>
                <a:lnTo>
                  <a:pt x="40824" y="1400"/>
                </a:lnTo>
                <a:lnTo>
                  <a:pt x="1400" y="1400"/>
                </a:lnTo>
                <a:close/>
              </a:path>
              <a:path fill="darken" w="42224" h="21600">
                <a:moveTo>
                  <a:pt x="42224" y="0"/>
                </a:moveTo>
                <a:lnTo>
                  <a:pt x="42224" y="21600"/>
                </a:lnTo>
                <a:lnTo>
                  <a:pt x="40824" y="20200"/>
                </a:lnTo>
                <a:lnTo>
                  <a:pt x="40824" y="1400"/>
                </a:lnTo>
                <a:close/>
              </a:path>
              <a:path fill="darkenLess" w="42224" h="21600">
                <a:moveTo>
                  <a:pt x="42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24" y="20200"/>
                </a:lnTo>
                <a:close/>
              </a:path>
              <a:path fill="lighten" w="42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24" h="21600">
                <a:moveTo>
                  <a:pt x="14106" y="3794"/>
                </a:moveTo>
                <a:lnTo>
                  <a:pt x="28119" y="10800"/>
                </a:lnTo>
                <a:lnTo>
                  <a:pt x="141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000000"/>
                </a:solidFill>
                <a:latin typeface="Arial"/>
              </a:rPr>
              <a:t>- Vine şi pe la noi Crăiasa Zăpezii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457200" y="548640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6" h="21600">
                <a:moveTo>
                  <a:pt x="15081" y="10800"/>
                </a:moveTo>
                <a:lnTo>
                  <a:pt x="29094" y="3794"/>
                </a:lnTo>
                <a:lnTo>
                  <a:pt x="290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000000"/>
                </a:solidFill>
                <a:latin typeface="Arial"/>
              </a:rPr>
              <a:t>- Ce frumoasă este Crăiasa Zăpezi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57200" y="571500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6" h="21600">
                <a:moveTo>
                  <a:pt x="15081" y="10800"/>
                </a:moveTo>
                <a:lnTo>
                  <a:pt x="29094" y="3794"/>
                </a:lnTo>
                <a:lnTo>
                  <a:pt x="290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380880" y="5715000"/>
            <a:ext cx="1043280" cy="509760"/>
          </a:xfrm>
          <a:custGeom>
            <a:avLst/>
            <a:gdLst>
              <a:gd name="textAreaLeft" fmla="*/ 32760 w 1043280"/>
              <a:gd name="textAreaRight" fmla="*/ 1010520 w 104328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91" h="21600">
                <a:moveTo>
                  <a:pt x="0" y="0"/>
                </a:moveTo>
                <a:lnTo>
                  <a:pt x="44191" y="0"/>
                </a:lnTo>
                <a:lnTo>
                  <a:pt x="44191" y="21600"/>
                </a:lnTo>
                <a:lnTo>
                  <a:pt x="0" y="21600"/>
                </a:lnTo>
                <a:close/>
              </a:path>
              <a:path fill="lightenLess" w="44191" h="21600">
                <a:moveTo>
                  <a:pt x="0" y="0"/>
                </a:moveTo>
                <a:lnTo>
                  <a:pt x="44191" y="0"/>
                </a:lnTo>
                <a:lnTo>
                  <a:pt x="42791" y="1400"/>
                </a:lnTo>
                <a:lnTo>
                  <a:pt x="1400" y="1400"/>
                </a:lnTo>
                <a:close/>
              </a:path>
              <a:path fill="darken" w="44191" h="21600">
                <a:moveTo>
                  <a:pt x="44191" y="0"/>
                </a:moveTo>
                <a:lnTo>
                  <a:pt x="44191" y="21600"/>
                </a:lnTo>
                <a:lnTo>
                  <a:pt x="42791" y="20200"/>
                </a:lnTo>
                <a:lnTo>
                  <a:pt x="42791" y="1400"/>
                </a:lnTo>
                <a:close/>
              </a:path>
              <a:path fill="darkenLess" w="44191" h="21600">
                <a:moveTo>
                  <a:pt x="44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91" y="20200"/>
                </a:lnTo>
                <a:close/>
              </a:path>
              <a:path fill="lighten" w="44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91" h="21600">
                <a:moveTo>
                  <a:pt x="15089" y="10800"/>
                </a:moveTo>
                <a:lnTo>
                  <a:pt x="29102" y="3794"/>
                </a:lnTo>
                <a:lnTo>
                  <a:pt x="291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300" spc="-1" strike="noStrike">
                <a:solidFill>
                  <a:srgbClr val="000000"/>
                </a:solidFill>
                <a:latin typeface="Arial"/>
              </a:rPr>
              <a:t>Mama a pus două cuburi de </a:t>
            </a:r>
            <a:r>
              <a:rPr b="0" lang="ro-RO" sz="33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300" spc="-1" strike="noStrike">
                <a:solidFill>
                  <a:srgbClr val="000000"/>
                </a:solidFill>
                <a:latin typeface="Arial"/>
              </a:rPr>
              <a:t> în suc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276720" y="2619360"/>
            <a:ext cx="26668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Urşii polari trăiesc în zonele de </a:t>
            </a:r>
            <a:r>
              <a:rPr b="0" lang="ro-RO" sz="34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304920" y="5562720"/>
            <a:ext cx="1042920" cy="50940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44207" h="21600">
                <a:moveTo>
                  <a:pt x="0" y="0"/>
                </a:moveTo>
                <a:lnTo>
                  <a:pt x="44207" y="0"/>
                </a:lnTo>
                <a:lnTo>
                  <a:pt x="44207" y="21600"/>
                </a:lnTo>
                <a:lnTo>
                  <a:pt x="0" y="21600"/>
                </a:lnTo>
                <a:close/>
              </a:path>
              <a:path fill="lightenLess" w="44207" h="21600">
                <a:moveTo>
                  <a:pt x="0" y="0"/>
                </a:moveTo>
                <a:lnTo>
                  <a:pt x="44207" y="0"/>
                </a:lnTo>
                <a:lnTo>
                  <a:pt x="42807" y="1400"/>
                </a:lnTo>
                <a:lnTo>
                  <a:pt x="1400" y="1400"/>
                </a:lnTo>
                <a:close/>
              </a:path>
              <a:path fill="darken" w="44207" h="21600">
                <a:moveTo>
                  <a:pt x="44207" y="0"/>
                </a:moveTo>
                <a:lnTo>
                  <a:pt x="44207" y="21600"/>
                </a:lnTo>
                <a:lnTo>
                  <a:pt x="42807" y="20200"/>
                </a:lnTo>
                <a:lnTo>
                  <a:pt x="42807" y="1400"/>
                </a:lnTo>
                <a:close/>
              </a:path>
              <a:path fill="darkenLess" w="44207" h="21600">
                <a:moveTo>
                  <a:pt x="442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807" y="20200"/>
                </a:lnTo>
                <a:close/>
              </a:path>
              <a:path fill="lighten" w="442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207" h="21600">
                <a:moveTo>
                  <a:pt x="15097" y="10800"/>
                </a:moveTo>
                <a:lnTo>
                  <a:pt x="29110" y="3794"/>
                </a:lnTo>
                <a:lnTo>
                  <a:pt x="291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895480" y="228600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Crăiasa Zăpezii avea inima de </a:t>
            </a:r>
            <a:r>
              <a:rPr b="0" lang="ro-RO" sz="34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457200" y="5486400"/>
            <a:ext cx="1042920" cy="433440"/>
          </a:xfrm>
          <a:custGeom>
            <a:avLst/>
            <a:gdLst>
              <a:gd name="textAreaLeft" fmla="*/ 28080 w 1042920"/>
              <a:gd name="textAreaRight" fmla="*/ 1014840 w 10429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1948" h="21600">
                <a:moveTo>
                  <a:pt x="0" y="0"/>
                </a:moveTo>
                <a:lnTo>
                  <a:pt x="51948" y="0"/>
                </a:lnTo>
                <a:lnTo>
                  <a:pt x="51948" y="21600"/>
                </a:lnTo>
                <a:lnTo>
                  <a:pt x="0" y="21600"/>
                </a:lnTo>
                <a:close/>
              </a:path>
              <a:path fill="lightenLess" w="51948" h="21600">
                <a:moveTo>
                  <a:pt x="0" y="0"/>
                </a:moveTo>
                <a:lnTo>
                  <a:pt x="51948" y="0"/>
                </a:lnTo>
                <a:lnTo>
                  <a:pt x="50548" y="1400"/>
                </a:lnTo>
                <a:lnTo>
                  <a:pt x="1400" y="1400"/>
                </a:lnTo>
                <a:close/>
              </a:path>
              <a:path fill="darken" w="51948" h="21600">
                <a:moveTo>
                  <a:pt x="51948" y="0"/>
                </a:moveTo>
                <a:lnTo>
                  <a:pt x="51948" y="21600"/>
                </a:lnTo>
                <a:lnTo>
                  <a:pt x="50548" y="20200"/>
                </a:lnTo>
                <a:lnTo>
                  <a:pt x="50548" y="1400"/>
                </a:lnTo>
                <a:close/>
              </a:path>
              <a:path fill="darkenLess" w="51948" h="21600">
                <a:moveTo>
                  <a:pt x="51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8" y="20200"/>
                </a:lnTo>
                <a:close/>
              </a:path>
              <a:path fill="lighten" w="51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8" h="21600">
                <a:moveTo>
                  <a:pt x="18967" y="10800"/>
                </a:moveTo>
                <a:lnTo>
                  <a:pt x="32980" y="3794"/>
                </a:lnTo>
                <a:lnTo>
                  <a:pt x="329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895480" y="1143000"/>
            <a:ext cx="4030920" cy="5181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257800" y="3276720"/>
            <a:ext cx="10764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Bunica a cumpărat de la florărie o </a:t>
            </a:r>
            <a:r>
              <a:rPr b="0" lang="ro-RO" sz="34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827520" cy="4389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819520" y="6172200"/>
            <a:ext cx="3886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egonia semperflor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2" action="ppaction://hlinksldjump"/>
          </p:cNvPr>
          <p:cNvSpPr/>
          <p:nvPr/>
        </p:nvSpPr>
        <p:spPr>
          <a:xfrm>
            <a:off x="457200" y="6095880"/>
            <a:ext cx="1042920" cy="433440"/>
          </a:xfrm>
          <a:custGeom>
            <a:avLst/>
            <a:gdLst>
              <a:gd name="textAreaLeft" fmla="*/ 28080 w 1042920"/>
              <a:gd name="textAreaRight" fmla="*/ 1014840 w 10429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51948" h="21600">
                <a:moveTo>
                  <a:pt x="0" y="0"/>
                </a:moveTo>
                <a:lnTo>
                  <a:pt x="51948" y="0"/>
                </a:lnTo>
                <a:lnTo>
                  <a:pt x="51948" y="21600"/>
                </a:lnTo>
                <a:lnTo>
                  <a:pt x="0" y="21600"/>
                </a:lnTo>
                <a:close/>
              </a:path>
              <a:path fill="lightenLess" w="51948" h="21600">
                <a:moveTo>
                  <a:pt x="0" y="0"/>
                </a:moveTo>
                <a:lnTo>
                  <a:pt x="51948" y="0"/>
                </a:lnTo>
                <a:lnTo>
                  <a:pt x="50548" y="1400"/>
                </a:lnTo>
                <a:lnTo>
                  <a:pt x="1400" y="1400"/>
                </a:lnTo>
                <a:close/>
              </a:path>
              <a:path fill="darken" w="51948" h="21600">
                <a:moveTo>
                  <a:pt x="51948" y="0"/>
                </a:moveTo>
                <a:lnTo>
                  <a:pt x="51948" y="21600"/>
                </a:lnTo>
                <a:lnTo>
                  <a:pt x="50548" y="20200"/>
                </a:lnTo>
                <a:lnTo>
                  <a:pt x="50548" y="1400"/>
                </a:lnTo>
                <a:close/>
              </a:path>
              <a:path fill="darkenLess" w="51948" h="21600">
                <a:moveTo>
                  <a:pt x="51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548" y="20200"/>
                </a:lnTo>
                <a:close/>
              </a:path>
              <a:path fill="lighten" w="51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948" h="21600">
                <a:moveTo>
                  <a:pt x="18967" y="10800"/>
                </a:moveTo>
                <a:lnTo>
                  <a:pt x="32980" y="3794"/>
                </a:lnTo>
                <a:lnTo>
                  <a:pt x="3298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La cofetărie am plătit cu bani </a:t>
            </a:r>
            <a:r>
              <a:rPr b="0" lang="ro-RO" sz="3400" spc="-1" strike="noStrike">
                <a:solidFill>
                  <a:srgbClr val="ff0000"/>
                </a:solidFill>
                <a:latin typeface="Arial"/>
              </a:rPr>
              <a:t>gheaţă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2362320" cy="3352680"/>
          </a:xfrm>
          <a:prstGeom prst="rect">
            <a:avLst/>
          </a:prstGeom>
          <a:ln w="0">
            <a:noFill/>
          </a:ln>
        </p:spPr>
      </p:pic>
      <p:sp>
        <p:nvSpPr>
          <p:cNvPr id="237" name="">
            <a:hlinkClick r:id="rId2" action="ppaction://hlinksldjump"/>
          </p:cNvPr>
          <p:cNvSpPr/>
          <p:nvPr/>
        </p:nvSpPr>
        <p:spPr>
          <a:xfrm>
            <a:off x="533520" y="5486400"/>
            <a:ext cx="1042920" cy="585720"/>
          </a:xfrm>
          <a:custGeom>
            <a:avLst/>
            <a:gdLst>
              <a:gd name="textAreaLeft" fmla="*/ 37800 w 1042920"/>
              <a:gd name="textAreaRight" fmla="*/ 1005120 w 10429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50" h="21600">
                <a:moveTo>
                  <a:pt x="0" y="0"/>
                </a:moveTo>
                <a:lnTo>
                  <a:pt x="38450" y="0"/>
                </a:lnTo>
                <a:lnTo>
                  <a:pt x="38450" y="21600"/>
                </a:lnTo>
                <a:lnTo>
                  <a:pt x="0" y="21600"/>
                </a:lnTo>
                <a:close/>
              </a:path>
              <a:path fill="lightenLess" w="38450" h="21600">
                <a:moveTo>
                  <a:pt x="0" y="0"/>
                </a:moveTo>
                <a:lnTo>
                  <a:pt x="38450" y="0"/>
                </a:lnTo>
                <a:lnTo>
                  <a:pt x="37050" y="1400"/>
                </a:lnTo>
                <a:lnTo>
                  <a:pt x="1400" y="1400"/>
                </a:lnTo>
                <a:close/>
              </a:path>
              <a:path fill="darken" w="38450" h="21600">
                <a:moveTo>
                  <a:pt x="38450" y="0"/>
                </a:moveTo>
                <a:lnTo>
                  <a:pt x="38450" y="21600"/>
                </a:lnTo>
                <a:lnTo>
                  <a:pt x="37050" y="20200"/>
                </a:lnTo>
                <a:lnTo>
                  <a:pt x="37050" y="1400"/>
                </a:lnTo>
                <a:close/>
              </a:path>
              <a:path fill="darkenLess" w="38450" h="21600">
                <a:moveTo>
                  <a:pt x="38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0" y="20200"/>
                </a:lnTo>
                <a:close/>
              </a:path>
              <a:path fill="lighten" w="38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0" h="21600">
                <a:moveTo>
                  <a:pt x="12219" y="10800"/>
                </a:moveTo>
                <a:lnTo>
                  <a:pt x="26232" y="3794"/>
                </a:lnTo>
                <a:lnTo>
                  <a:pt x="262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AI ÎNCEARC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685800" y="5334120"/>
            <a:ext cx="1042920" cy="585720"/>
          </a:xfrm>
          <a:custGeom>
            <a:avLst/>
            <a:gdLst>
              <a:gd name="textAreaLeft" fmla="*/ 37800 w 1042920"/>
              <a:gd name="textAreaRight" fmla="*/ 1005120 w 10429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50" h="21600">
                <a:moveTo>
                  <a:pt x="0" y="0"/>
                </a:moveTo>
                <a:lnTo>
                  <a:pt x="38450" y="0"/>
                </a:lnTo>
                <a:lnTo>
                  <a:pt x="38450" y="21600"/>
                </a:lnTo>
                <a:lnTo>
                  <a:pt x="0" y="21600"/>
                </a:lnTo>
                <a:close/>
              </a:path>
              <a:path fill="lightenLess" w="38450" h="21600">
                <a:moveTo>
                  <a:pt x="0" y="0"/>
                </a:moveTo>
                <a:lnTo>
                  <a:pt x="38450" y="0"/>
                </a:lnTo>
                <a:lnTo>
                  <a:pt x="37050" y="1400"/>
                </a:lnTo>
                <a:lnTo>
                  <a:pt x="1400" y="1400"/>
                </a:lnTo>
                <a:close/>
              </a:path>
              <a:path fill="darken" w="38450" h="21600">
                <a:moveTo>
                  <a:pt x="38450" y="0"/>
                </a:moveTo>
                <a:lnTo>
                  <a:pt x="38450" y="21600"/>
                </a:lnTo>
                <a:lnTo>
                  <a:pt x="37050" y="20200"/>
                </a:lnTo>
                <a:lnTo>
                  <a:pt x="37050" y="1400"/>
                </a:lnTo>
                <a:close/>
              </a:path>
              <a:path fill="darkenLess" w="38450" h="21600">
                <a:moveTo>
                  <a:pt x="38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0" y="20200"/>
                </a:lnTo>
                <a:close/>
              </a:path>
              <a:path fill="lighten" w="38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0" h="21600">
                <a:moveTo>
                  <a:pt x="12219" y="10800"/>
                </a:moveTo>
                <a:lnTo>
                  <a:pt x="26232" y="3794"/>
                </a:lnTo>
                <a:lnTo>
                  <a:pt x="262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88620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2880" y="380520"/>
            <a:ext cx="3657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000000"/>
                </a:solidFill>
                <a:latin typeface="Arial"/>
              </a:rPr>
              <a:t>- Au început să roiască albinele albe, zice bunica.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4267080" cy="533412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7924680" y="6095880"/>
            <a:ext cx="1043280" cy="586080"/>
          </a:xfrm>
          <a:custGeom>
            <a:avLst/>
            <a:gdLst>
              <a:gd name="textAreaLeft" fmla="*/ 37800 w 1043280"/>
              <a:gd name="textAreaRight" fmla="*/ 1005480 w 104328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38440" h="21600">
                <a:moveTo>
                  <a:pt x="0" y="0"/>
                </a:moveTo>
                <a:lnTo>
                  <a:pt x="38440" y="0"/>
                </a:lnTo>
                <a:lnTo>
                  <a:pt x="38440" y="21600"/>
                </a:lnTo>
                <a:lnTo>
                  <a:pt x="0" y="21600"/>
                </a:lnTo>
                <a:close/>
              </a:path>
              <a:path fill="lightenLess" w="38440" h="21600">
                <a:moveTo>
                  <a:pt x="0" y="0"/>
                </a:moveTo>
                <a:lnTo>
                  <a:pt x="38440" y="0"/>
                </a:lnTo>
                <a:lnTo>
                  <a:pt x="37040" y="1400"/>
                </a:lnTo>
                <a:lnTo>
                  <a:pt x="1400" y="1400"/>
                </a:lnTo>
                <a:close/>
              </a:path>
              <a:path fill="darken" w="38440" h="21600">
                <a:moveTo>
                  <a:pt x="38440" y="0"/>
                </a:moveTo>
                <a:lnTo>
                  <a:pt x="38440" y="21600"/>
                </a:lnTo>
                <a:lnTo>
                  <a:pt x="37040" y="20200"/>
                </a:lnTo>
                <a:lnTo>
                  <a:pt x="37040" y="1400"/>
                </a:lnTo>
                <a:close/>
              </a:path>
              <a:path fill="darkenLess" w="38440" h="21600">
                <a:moveTo>
                  <a:pt x="38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40" y="20200"/>
                </a:lnTo>
                <a:close/>
              </a:path>
              <a:path fill="lighten" w="38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40" h="21600">
                <a:moveTo>
                  <a:pt x="12213" y="3794"/>
                </a:moveTo>
                <a:lnTo>
                  <a:pt x="26226" y="10800"/>
                </a:lnTo>
                <a:lnTo>
                  <a:pt x="1221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1640" y="1522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Arial"/>
              </a:rPr>
              <a:t>- Au şi regină? întreabă băieţelul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hansel gretel  fairy tale porcelain collectibles treffeisen dolls"/>
          <p:cNvPicPr/>
          <p:nvPr/>
        </p:nvPicPr>
        <p:blipFill>
          <a:blip r:embed="rId1"/>
          <a:stretch/>
        </p:blipFill>
        <p:spPr>
          <a:xfrm>
            <a:off x="0" y="0"/>
            <a:ext cx="4419720" cy="655308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848720" y="6324480"/>
            <a:ext cx="1042920" cy="53352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2210" h="21600">
                <a:moveTo>
                  <a:pt x="0" y="0"/>
                </a:moveTo>
                <a:lnTo>
                  <a:pt x="42210" y="0"/>
                </a:lnTo>
                <a:lnTo>
                  <a:pt x="42210" y="21600"/>
                </a:lnTo>
                <a:lnTo>
                  <a:pt x="0" y="21600"/>
                </a:lnTo>
                <a:close/>
              </a:path>
              <a:path fill="lightenLess" w="42210" h="21600">
                <a:moveTo>
                  <a:pt x="0" y="0"/>
                </a:moveTo>
                <a:lnTo>
                  <a:pt x="42210" y="0"/>
                </a:lnTo>
                <a:lnTo>
                  <a:pt x="40810" y="1400"/>
                </a:lnTo>
                <a:lnTo>
                  <a:pt x="1400" y="1400"/>
                </a:lnTo>
                <a:close/>
              </a:path>
              <a:path fill="darken" w="42210" h="21600">
                <a:moveTo>
                  <a:pt x="42210" y="0"/>
                </a:moveTo>
                <a:lnTo>
                  <a:pt x="42210" y="21600"/>
                </a:lnTo>
                <a:lnTo>
                  <a:pt x="40810" y="20200"/>
                </a:lnTo>
                <a:lnTo>
                  <a:pt x="40810" y="1400"/>
                </a:lnTo>
                <a:close/>
              </a:path>
              <a:path fill="darkenLess" w="42210" h="21600">
                <a:moveTo>
                  <a:pt x="42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10" y="20200"/>
                </a:lnTo>
                <a:close/>
              </a:path>
              <a:path fill="lighten" w="42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10" h="21600">
                <a:moveTo>
                  <a:pt x="14098" y="3794"/>
                </a:moveTo>
                <a:lnTo>
                  <a:pt x="28111" y="10800"/>
                </a:lnTo>
                <a:lnTo>
                  <a:pt x="140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8840" y="914400"/>
            <a:ext cx="3809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000" spc="-1" strike="noStrike">
                <a:solidFill>
                  <a:srgbClr val="000000"/>
                </a:solidFill>
                <a:latin typeface="Arial"/>
              </a:rPr>
              <a:t>-Da, au, </a:t>
            </a:r>
            <a:r>
              <a:rPr b="0" lang="ro-RO" sz="6800" spc="-1" strike="noStrike">
                <a:solidFill>
                  <a:srgbClr val="000000"/>
                </a:solidFill>
                <a:latin typeface="Arial"/>
              </a:rPr>
              <a:t>răspunde</a:t>
            </a:r>
            <a:r>
              <a:rPr b="0" lang="ro-RO" sz="7000" spc="-1" strike="noStrike">
                <a:solidFill>
                  <a:srgbClr val="000000"/>
                </a:solidFill>
                <a:latin typeface="Arial"/>
              </a:rPr>
              <a:t> bunica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645080" cy="650700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772400" y="6324480"/>
            <a:ext cx="1042920" cy="533520"/>
          </a:xfrm>
          <a:custGeom>
            <a:avLst/>
            <a:gdLst>
              <a:gd name="textAreaLeft" fmla="*/ 34560 w 1042920"/>
              <a:gd name="textAreaRight" fmla="*/ 1008360 w 1042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2210" h="21600">
                <a:moveTo>
                  <a:pt x="0" y="0"/>
                </a:moveTo>
                <a:lnTo>
                  <a:pt x="42210" y="0"/>
                </a:lnTo>
                <a:lnTo>
                  <a:pt x="42210" y="21600"/>
                </a:lnTo>
                <a:lnTo>
                  <a:pt x="0" y="21600"/>
                </a:lnTo>
                <a:close/>
              </a:path>
              <a:path fill="lightenLess" w="42210" h="21600">
                <a:moveTo>
                  <a:pt x="0" y="0"/>
                </a:moveTo>
                <a:lnTo>
                  <a:pt x="42210" y="0"/>
                </a:lnTo>
                <a:lnTo>
                  <a:pt x="40810" y="1400"/>
                </a:lnTo>
                <a:lnTo>
                  <a:pt x="1400" y="1400"/>
                </a:lnTo>
                <a:close/>
              </a:path>
              <a:path fill="darken" w="42210" h="21600">
                <a:moveTo>
                  <a:pt x="42210" y="0"/>
                </a:moveTo>
                <a:lnTo>
                  <a:pt x="42210" y="21600"/>
                </a:lnTo>
                <a:lnTo>
                  <a:pt x="40810" y="20200"/>
                </a:lnTo>
                <a:lnTo>
                  <a:pt x="40810" y="1400"/>
                </a:lnTo>
                <a:close/>
              </a:path>
              <a:path fill="darkenLess" w="42210" h="21600">
                <a:moveTo>
                  <a:pt x="42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810" y="20200"/>
                </a:lnTo>
                <a:close/>
              </a:path>
              <a:path fill="lighten" w="42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210" h="21600">
                <a:moveTo>
                  <a:pt x="14098" y="3794"/>
                </a:moveTo>
                <a:lnTo>
                  <a:pt x="28111" y="10800"/>
                </a:lnTo>
                <a:lnTo>
                  <a:pt x="140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23920" y="228600"/>
            <a:ext cx="39625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răiasa Zăpezii porneşte noaptea pe străzi şi se uită pe ferestre în case. Atunci geamurile îngheaţ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343400" cy="358128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101080" y="6348240"/>
            <a:ext cx="1042920" cy="509760"/>
          </a:xfrm>
          <a:custGeom>
            <a:avLst/>
            <a:gdLst>
              <a:gd name="textAreaLeft" fmla="*/ 32760 w 1042920"/>
              <a:gd name="textAreaRight" fmla="*/ 1010160 w 10429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4176" h="21600">
                <a:moveTo>
                  <a:pt x="0" y="0"/>
                </a:moveTo>
                <a:lnTo>
                  <a:pt x="44176" y="0"/>
                </a:lnTo>
                <a:lnTo>
                  <a:pt x="44176" y="21600"/>
                </a:lnTo>
                <a:lnTo>
                  <a:pt x="0" y="21600"/>
                </a:lnTo>
                <a:close/>
              </a:path>
              <a:path fill="lightenLess" w="44176" h="21600">
                <a:moveTo>
                  <a:pt x="0" y="0"/>
                </a:moveTo>
                <a:lnTo>
                  <a:pt x="44176" y="0"/>
                </a:lnTo>
                <a:lnTo>
                  <a:pt x="42776" y="1400"/>
                </a:lnTo>
                <a:lnTo>
                  <a:pt x="1400" y="1400"/>
                </a:lnTo>
                <a:close/>
              </a:path>
              <a:path fill="darken" w="44176" h="21600">
                <a:moveTo>
                  <a:pt x="44176" y="0"/>
                </a:moveTo>
                <a:lnTo>
                  <a:pt x="44176" y="21600"/>
                </a:lnTo>
                <a:lnTo>
                  <a:pt x="42776" y="20200"/>
                </a:lnTo>
                <a:lnTo>
                  <a:pt x="42776" y="1400"/>
                </a:lnTo>
                <a:close/>
              </a:path>
              <a:path fill="darkenLess" w="44176" h="21600">
                <a:moveTo>
                  <a:pt x="44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776" y="20200"/>
                </a:lnTo>
                <a:close/>
              </a:path>
              <a:path fill="lighten" w="44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176" h="21600">
                <a:moveTo>
                  <a:pt x="15081" y="3794"/>
                </a:moveTo>
                <a:lnTo>
                  <a:pt x="29094" y="10800"/>
                </a:lnTo>
                <a:lnTo>
                  <a:pt x="150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733920" cy="61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000" spc="-1" strike="noStrike">
                <a:solidFill>
                  <a:srgbClr val="000000"/>
                </a:solidFill>
                <a:latin typeface="Arial"/>
              </a:rPr>
              <a:t>- Vine şi pe la noi? întreabă fetiţa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collectible germany dolls gabriela vinyl doll of the Vinyl-Art treffeisen"/>
          <p:cNvPicPr/>
          <p:nvPr/>
        </p:nvPicPr>
        <p:blipFill>
          <a:blip r:embed="rId1"/>
          <a:stretch/>
        </p:blipFill>
        <p:spPr>
          <a:xfrm>
            <a:off x="4191120" y="304920"/>
            <a:ext cx="4628880" cy="632448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228600" y="6095880"/>
            <a:ext cx="1042920" cy="586080"/>
          </a:xfrm>
          <a:custGeom>
            <a:avLst/>
            <a:gdLst>
              <a:gd name="textAreaLeft" fmla="*/ 37800 w 1042920"/>
              <a:gd name="textAreaRight" fmla="*/ 1005120 w 104292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38427" h="21600">
                <a:moveTo>
                  <a:pt x="0" y="0"/>
                </a:moveTo>
                <a:lnTo>
                  <a:pt x="38427" y="0"/>
                </a:lnTo>
                <a:lnTo>
                  <a:pt x="38427" y="21600"/>
                </a:lnTo>
                <a:lnTo>
                  <a:pt x="0" y="21600"/>
                </a:lnTo>
                <a:close/>
              </a:path>
              <a:path fill="lightenLess" w="38427" h="21600">
                <a:moveTo>
                  <a:pt x="0" y="0"/>
                </a:moveTo>
                <a:lnTo>
                  <a:pt x="38427" y="0"/>
                </a:lnTo>
                <a:lnTo>
                  <a:pt x="37027" y="1400"/>
                </a:lnTo>
                <a:lnTo>
                  <a:pt x="1400" y="1400"/>
                </a:lnTo>
                <a:close/>
              </a:path>
              <a:path fill="darken" w="38427" h="21600">
                <a:moveTo>
                  <a:pt x="38427" y="0"/>
                </a:moveTo>
                <a:lnTo>
                  <a:pt x="38427" y="21600"/>
                </a:lnTo>
                <a:lnTo>
                  <a:pt x="37027" y="20200"/>
                </a:lnTo>
                <a:lnTo>
                  <a:pt x="37027" y="1400"/>
                </a:lnTo>
                <a:close/>
              </a:path>
              <a:path fill="darkenLess" w="38427" h="21600">
                <a:moveTo>
                  <a:pt x="38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27" y="20200"/>
                </a:lnTo>
                <a:close/>
              </a:path>
              <a:path fill="lighten" w="38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27" h="21600">
                <a:moveTo>
                  <a:pt x="12207" y="3794"/>
                </a:moveTo>
                <a:lnTo>
                  <a:pt x="26220" y="10800"/>
                </a:lnTo>
                <a:lnTo>
                  <a:pt x="1220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81120" y="380880"/>
            <a:ext cx="35053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00000"/>
                </a:solidFill>
                <a:latin typeface="Arial"/>
              </a:rPr>
              <a:t>- Atâta îi trebuie, răspunde băiatul, că o pun pe sobă şi îndată se topeşte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343400" cy="6248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Fire"/>
          <p:cNvPicPr/>
          <p:nvPr/>
        </p:nvPicPr>
        <p:blipFill>
          <a:blip r:embed="rId2"/>
          <a:stretch/>
        </p:blipFill>
        <p:spPr>
          <a:xfrm>
            <a:off x="4524480" y="3381480"/>
            <a:ext cx="95040" cy="95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133720" y="2590920"/>
            <a:ext cx="2057400" cy="215244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101080" y="619596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20" h="21600">
                <a:moveTo>
                  <a:pt x="10004" y="3794"/>
                </a:moveTo>
                <a:lnTo>
                  <a:pt x="24016" y="10800"/>
                </a:lnTo>
                <a:lnTo>
                  <a:pt x="1000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ULIA</cp:lastModifiedBy>
  <dcterms:modified xsi:type="dcterms:W3CDTF">2010-01-10T19:30:55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